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8539D-F1E8-4747-B31D-6743582606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2AEA-D6F4-4FA5-BDEA-C428078BAB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A322-4B70-4C76-8603-FF68FA3FC5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54A5-E2AB-4DEC-9A29-3CBC04D7E1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D1C99-D5D4-4167-9079-4677AAF061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07AC-7531-473A-ACC2-349E3CF1F0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BF5B-3FB2-4308-B10D-6F89834E18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2788E-5A72-44C3-8776-E48DBBF03C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9FD2-FBD3-43BA-A755-2E7FF6420A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47FD-CFAE-498A-B5CB-CB55D3AD9A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BEBEE-2070-406B-BBF4-DD40A5F106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FB343-FE59-4EB8-A22E-9F92B78298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 type="sldNum" idx="1"/>
          </p:nvPr>
        </p:nvSpPr>
        <p:spPr>
          <a:xfrm>
            <a:off x="1263600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5481-FA65-4B99-802F-E417B355242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52452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3124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137960" indent="-3405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44468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6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cs.man.ac.uk/~horrocks/FaCT/" TargetMode="External"/><Relationship Id="rId2" Type="http://schemas.openxmlformats.org/officeDocument/2006/relationships/hyperlink" Target="http://owl.man.ac.uk/factplusplus/" TargetMode="External"/><Relationship Id="rId3" Type="http://schemas.openxmlformats.org/officeDocument/2006/relationships/hyperlink" Target="http://www.mindswap.org/2003/pellet/index.shtml" TargetMode="External"/><Relationship Id="rId4" Type="http://schemas.openxmlformats.org/officeDocument/2006/relationships/hyperlink" Target="http://www.sts.tu-harburg.de/~r.f.moeller/racer/" TargetMode="External"/><Relationship Id="rId5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C8C7-C6E5-4792-8B54-5AA10812E93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ub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33280" y="2489040"/>
            <a:ext cx="12077640" cy="73663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r Professor ist ein Fakultätsmitglied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subClass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Fakultätsmitglieder sind genau die Professoren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equivalentClas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4217-72DB-4C94-9D6E-2B2D365C79E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4413-A744-478F-9FAC-8DC90945593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komplex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s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 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versitaetsangehoeriger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iversitaetsangehoeriger(x)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(x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5C79-4AEA-4652-A239-936E5B6C66D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Quantoren auf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65280" y="2387160"/>
            <a:ext cx="11982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nur Professoren als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rofessor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erso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mindestens einen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erson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1966-99C9-44E8-BC2B-E921567C2C8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e OWL-Konstrukte in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sjointWi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gleichbedeutend: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 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8240-6055-48C1-B49A-4BD437DAB8A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Formale 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466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Syntaxregeln erzeugen Klassen in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. Dabei ist A eine atomare Klasse und R eine Roll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,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T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besteht aus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, wobei C, D Klass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A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Aussagen der Form C(a) und R(a,b), wobei C eine komplexe Klasse, R eine Rolle und a,b Individu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Wissensbasi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einer ABox und einer TBox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A141-96DE-4736-AD5C-54BEB44CECF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wir definieren modelltheoretische Semantik für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 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(d.h. Folgerung wird über Interpretationen definiert)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eine Interpretation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=(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,</a:t>
            </a:r>
            <a:r>
              <a:rPr b="0" lang="en-US" sz="38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) besteht aus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13064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Menge </a:t>
            </a:r>
            <a:r>
              <a:rPr b="0" lang="en-US" sz="4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genannt Domäne und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064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Funktion </a:t>
            </a:r>
            <a:r>
              <a:rPr b="0" lang="en-US" sz="42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ie abbildet v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dividuennamen a auf Domänenelement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a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Klassennamen C auf Mengen von Domänenelemente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C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Rollennamen R auf Mengen von Paaren von Domänenelementen R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4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Lucida Grande"/>
              </a:rPr>
              <a:t> ×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2817-6473-43F4-8F22-19330371D7A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chematis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689120" y="3048120"/>
          <a:ext cx="9613800" cy="1143000"/>
        </p:xfrm>
        <a:graphic>
          <a:graphicData uri="http://schemas.openxmlformats.org/drawingml/2006/table">
            <a:tbl>
              <a:tblPr/>
              <a:tblGrid>
                <a:gridCol w="3203640"/>
                <a:gridCol w="3205080"/>
                <a:gridCol w="3205080"/>
              </a:tblGrid>
              <a:tr h="2051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dividu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a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lass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C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Roll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R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5" name="Gruppierung 52"/>
          <p:cNvGrpSpPr/>
          <p:nvPr/>
        </p:nvGrpSpPr>
        <p:grpSpPr>
          <a:xfrm>
            <a:off x="3325680" y="3962520"/>
            <a:ext cx="6377040" cy="3479760"/>
            <a:chOff x="3325680" y="3962520"/>
            <a:chExt cx="6377040" cy="3479760"/>
          </a:xfrm>
        </p:grpSpPr>
        <p:sp>
          <p:nvSpPr>
            <p:cNvPr id="456" name="AutoShape 2"/>
            <p:cNvSpPr/>
            <p:nvPr/>
          </p:nvSpPr>
          <p:spPr>
            <a:xfrm>
              <a:off x="3325680" y="4211640"/>
              <a:ext cx="6301080" cy="1224000"/>
            </a:xfrm>
            <a:prstGeom prst="downArrow">
              <a:avLst>
                <a:gd name="adj1" fmla="val 74926"/>
                <a:gd name="adj2" fmla="val 70185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57" name="Bild 37" descr="DLinter.eps"/>
            <p:cNvPicPr/>
            <p:nvPr/>
          </p:nvPicPr>
          <p:blipFill>
            <a:blip r:embed="rId1"/>
            <a:stretch/>
          </p:blipFill>
          <p:spPr>
            <a:xfrm>
              <a:off x="3841920" y="4851360"/>
              <a:ext cx="46656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50"/>
            <p:cNvSpPr/>
            <p:nvPr/>
          </p:nvSpPr>
          <p:spPr>
            <a:xfrm>
              <a:off x="5632200" y="3962520"/>
              <a:ext cx="596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Gill Sans"/>
                </a:rPr>
                <a:t>.</a:t>
              </a:r>
              <a:r>
                <a:rPr b="0" lang="de-DE" sz="2800" spc="-1" strike="noStrike">
                  <a:solidFill>
                    <a:srgbClr val="000000"/>
                  </a:solidFill>
                  <a:latin typeface="cmbsy10"/>
                </a:rPr>
                <a:t>I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9" name="Rechteck 39"/>
            <p:cNvSpPr/>
            <p:nvPr/>
          </p:nvSpPr>
          <p:spPr>
            <a:xfrm>
              <a:off x="4648680" y="5572800"/>
              <a:ext cx="48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Rechteck 40"/>
            <p:cNvSpPr/>
            <p:nvPr/>
          </p:nvSpPr>
          <p:spPr>
            <a:xfrm>
              <a:off x="6196680" y="553716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Rechteck 41"/>
            <p:cNvSpPr/>
            <p:nvPr/>
          </p:nvSpPr>
          <p:spPr>
            <a:xfrm>
              <a:off x="7567200" y="66906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2" name="Rechteck 42"/>
            <p:cNvSpPr/>
            <p:nvPr/>
          </p:nvSpPr>
          <p:spPr>
            <a:xfrm>
              <a:off x="5221800" y="4838760"/>
              <a:ext cx="54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3" name="Oval 16"/>
            <p:cNvSpPr/>
            <p:nvPr/>
          </p:nvSpPr>
          <p:spPr>
            <a:xfrm>
              <a:off x="3876480" y="4884840"/>
              <a:ext cx="4157640" cy="1814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4" name="Oval 20"/>
            <p:cNvSpPr/>
            <p:nvPr/>
          </p:nvSpPr>
          <p:spPr>
            <a:xfrm>
              <a:off x="5586120" y="5400720"/>
              <a:ext cx="1727280" cy="906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5" name="Line 2"/>
            <p:cNvSpPr/>
            <p:nvPr/>
          </p:nvSpPr>
          <p:spPr>
            <a:xfrm>
              <a:off x="3401640" y="4470480"/>
              <a:ext cx="63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6" name="AutoShape 29"/>
            <p:cNvSpPr/>
            <p:nvPr/>
          </p:nvSpPr>
          <p:spPr>
            <a:xfrm>
              <a:off x="4240080" y="4140000"/>
              <a:ext cx="649080" cy="1625400"/>
            </a:xfrm>
            <a:prstGeom prst="downArrow">
              <a:avLst>
                <a:gd name="adj1" fmla="val 50000"/>
                <a:gd name="adj2" fmla="val 52691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7" name="Rechteck 47"/>
            <p:cNvSpPr/>
            <p:nvPr/>
          </p:nvSpPr>
          <p:spPr>
            <a:xfrm>
              <a:off x="4387320" y="446580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6221160" y="4140000"/>
              <a:ext cx="649080" cy="1262160"/>
            </a:xfrm>
            <a:prstGeom prst="downArrow">
              <a:avLst>
                <a:gd name="adj1" fmla="val 50000"/>
                <a:gd name="adj2" fmla="val 5270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9" name="Rechteck 49"/>
            <p:cNvSpPr/>
            <p:nvPr/>
          </p:nvSpPr>
          <p:spPr>
            <a:xfrm>
              <a:off x="63475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0" name="AutoShape 30"/>
            <p:cNvSpPr/>
            <p:nvPr/>
          </p:nvSpPr>
          <p:spPr>
            <a:xfrm>
              <a:off x="8113680" y="4140000"/>
              <a:ext cx="649080" cy="2133720"/>
            </a:xfrm>
            <a:prstGeom prst="downArrow">
              <a:avLst>
                <a:gd name="adj1" fmla="val 50000"/>
                <a:gd name="adj2" fmla="val 52703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1" name="Rechteck 51"/>
            <p:cNvSpPr/>
            <p:nvPr/>
          </p:nvSpPr>
          <p:spPr>
            <a:xfrm>
              <a:off x="82429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41AE-8FDF-4A3A-97BA-55F4BFB9847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-Semantik (komplexe Klass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wird auf komplexe Klassen erweitert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∅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pple Symbol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\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→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mit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...und schließlich auf Axiome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(a)     gilt, wenn 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R(a,b)  gilt, wenn (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,b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FF95-F21C-4723-A438-AC887A41546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977760" y="2387160"/>
            <a:ext cx="59356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von TBox-Aussagen in die Prädikatenlogik mittels der Abbildung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rechts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bei sind C,D komplexe Klassen, R eine Rolle und A eine atomare Klass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6923160" y="2095560"/>
            <a:ext cx="5511600" cy="706608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3"/>
          <p:cNvSpPr/>
          <p:nvPr/>
        </p:nvSpPr>
        <p:spPr>
          <a:xfrm>
            <a:off x="8892720" y="6191280"/>
            <a:ext cx="637200" cy="335520"/>
          </a:xfrm>
          <a:prstGeom prst="rect">
            <a:avLst/>
          </a:prstGeom>
          <a:solidFill>
            <a:srgbClr val="eb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A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y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alternative Semantik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2829-C735-458C-BAFE-E93AEB7210A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Wissensba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1280" y="2214360"/>
            <a:ext cx="1104876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 Wissensbasen bestehen aus 2 Teil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Box: Axiome, die die Struktur der zu modellierenden Domäne beschreiben (konzeptionelles Schema)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phant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imal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rg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ey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itive(hasAncestor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ox:  Axiome, die konkrete Situationen (Daten) beschreib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(John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(John, Mary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03040" y="1523520"/>
            <a:ext cx="1263672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emantik &amp; Reasoning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6" name="Picture 12" descr=""/>
          <p:cNvPicPr/>
          <p:nvPr/>
        </p:nvPicPr>
        <p:blipFill>
          <a:blip r:embed="rId2"/>
          <a:srcRect l="34367" t="43074" r="45759" b="40876"/>
          <a:stretch/>
        </p:blipFill>
        <p:spPr>
          <a:xfrm>
            <a:off x="9004320" y="5816520"/>
            <a:ext cx="851040" cy="7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7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8" name="Rectangle 63"/>
          <p:cNvSpPr/>
          <p:nvPr/>
        </p:nvSpPr>
        <p:spPr>
          <a:xfrm>
            <a:off x="647640" y="665496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Rectangle 64"/>
          <p:cNvSpPr/>
          <p:nvPr/>
        </p:nvSpPr>
        <p:spPr>
          <a:xfrm>
            <a:off x="647640" y="9461520"/>
            <a:ext cx="113540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Kapitel 6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semantic-web-grundlagen.de/index.php/Kapitel_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FDFD-D711-4847-A624-6B978BDCA19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erminologisches Wiss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Huma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Alive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Wissen um Individu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A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(harry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(harrypotter,james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emantik und logische Konsequenzen klar, da übersetzbar nach FO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FF0E-FC68-44BF-AF84-1190B3FBDF2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und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OWL DL Sprachelemente sind in ALC repräsentierbar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, Rollen,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, Rolleninstanz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, -äquivalenz, -disjunkthei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, 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2818-6E5C-46DA-BDC9-9802C4ACA2B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3478-6C37-4129-8125-1B267A37C63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ame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dasselbe Domänenelement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=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Erweiterung durch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fferent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unterschiedliche Domänenelemente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=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FCB7-5966-4C04-8268-C3D2C50FA1C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Nominal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efiniert eine Klasse durch vollständige Aufzählung ihrer Instanz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a,b,c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x=a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b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c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hasValue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wingt“ Rolle zu einem bestimmten Individuu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stellbar mittels owl:someValuesFrom und 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69FA-571E-4A30-83EF-9C6F111A731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Kardinalitä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39560" y="1906200"/>
            <a:ext cx="11048760" cy="7846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 mittels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Class rdf:about="#Pruefung"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onProperty rdf:resource="#hatPruefer"/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maxCardinality rdf:datatype="&amp;xsd;nonNegativeInteger"&gt;2&lt;/owl:maxcardinality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Class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ine Prüfung kan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üfer haben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: Pruefung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hatPruef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FOL: (P… Prüfung, h…hatPruefer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)(P(x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1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2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3)(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1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2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3)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tsprechend für die anderen Zahlenrestriktio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35AB-BB23-4299-AEC5-474F2C24FC7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73120" y="1906200"/>
            <a:ext cx="11049120" cy="9194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pezifiziert Unterrolle-Oberrolle-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x,y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sprechend Roll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Konstruktor für Rollen zur Bildung der Inver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y,x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 Trans(R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ibt an, dass eine Rolle transitiv ist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z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y,z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x,z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ymmetrie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als Rollenäquivalenz mit der Inverse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durch Klasseninklusion und Kardinalitätsrestriktio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wie Funktionalität zuzüglich inverser Rolle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0B41-2293-4D72-B8D4-869DF601DF1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Überblick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laubt sind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L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leichheit und Ungleichheit zwischen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ubrollen und Rollenäquivalenz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verse und transitive Roll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CD23-FFCD-4A78-B7BA-77AA60A8817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Nomenkl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5120" y="2063880"/>
            <a:ext cx="11049120" cy="7619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ttribute Language with Complemen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+ Rollentransitivitä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Subrollenbezieh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invers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Qualifizierende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.C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: 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Funktional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Lite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I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74D4-3D70-4215-BD4A-C1B0A08A475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Übersich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31040" y="2178000"/>
            <a:ext cx="5092560" cy="6604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tology (=Knowledge Ba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33680" y="2536920"/>
          <a:ext cx="4206600" cy="4181400"/>
        </p:xfrm>
        <a:graphic>
          <a:graphicData uri="http://schemas.openxmlformats.org/drawingml/2006/table">
            <a:tbl>
              <a:tblPr/>
              <a:tblGrid>
                <a:gridCol w="1336680"/>
                <a:gridCol w="2869920"/>
              </a:tblGrid>
              <a:tr h="449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,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: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u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9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8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le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m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m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{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,…,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4" name="Group 69"/>
          <p:cNvGrpSpPr/>
          <p:nvPr/>
        </p:nvGrpSpPr>
        <p:grpSpPr>
          <a:xfrm>
            <a:off x="1633680" y="1996920"/>
            <a:ext cx="4208040" cy="536400"/>
            <a:chOff x="1633680" y="1996920"/>
            <a:chExt cx="4208040" cy="536400"/>
          </a:xfrm>
        </p:grpSpPr>
        <p:sp>
          <p:nvSpPr>
            <p:cNvPr id="515" name="Rectangle 70"/>
            <p:cNvSpPr/>
            <p:nvPr/>
          </p:nvSpPr>
          <p:spPr>
            <a:xfrm>
              <a:off x="1633680" y="1996920"/>
              <a:ext cx="4206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6" name="Rectangle 71"/>
            <p:cNvSpPr/>
            <p:nvPr/>
          </p:nvSpPr>
          <p:spPr>
            <a:xfrm>
              <a:off x="1633680" y="1996920"/>
              <a:ext cx="42080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17" name="Group 72"/>
          <p:cNvGrpSpPr/>
          <p:nvPr/>
        </p:nvGrpSpPr>
        <p:grpSpPr>
          <a:xfrm>
            <a:off x="1536840" y="7129440"/>
            <a:ext cx="4106880" cy="536400"/>
            <a:chOff x="1536840" y="7129440"/>
            <a:chExt cx="4106880" cy="536400"/>
          </a:xfrm>
        </p:grpSpPr>
        <p:sp>
          <p:nvSpPr>
            <p:cNvPr id="518" name="Rectangle 73"/>
            <p:cNvSpPr/>
            <p:nvPr/>
          </p:nvSpPr>
          <p:spPr>
            <a:xfrm>
              <a:off x="1536840" y="7129440"/>
              <a:ext cx="410688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9" name="Rectangle 74"/>
            <p:cNvSpPr/>
            <p:nvPr/>
          </p:nvSpPr>
          <p:spPr>
            <a:xfrm>
              <a:off x="1536840" y="7129440"/>
              <a:ext cx="40971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0" name=""/>
          <p:cNvGraphicFramePr/>
          <p:nvPr/>
        </p:nvGraphicFramePr>
        <p:xfrm>
          <a:off x="1536840" y="7669080"/>
          <a:ext cx="4106880" cy="932040"/>
        </p:xfrm>
        <a:graphic>
          <a:graphicData uri="http://schemas.openxmlformats.org/drawingml/2006/table">
            <a:tbl>
              <a:tblPr/>
              <a:tblGrid>
                <a:gridCol w="2344680"/>
                <a:gridCol w="176220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r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r>
                        <a:rPr b="0" lang="en-US" sz="2200" spc="-1" strike="noStrike" baseline="31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1" name="AutoShape 92"/>
          <p:cNvSpPr/>
          <p:nvPr/>
        </p:nvSpPr>
        <p:spPr>
          <a:xfrm rot="16200000">
            <a:off x="66600" y="3711240"/>
            <a:ext cx="270180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AutoShape 93"/>
          <p:cNvSpPr/>
          <p:nvPr/>
        </p:nvSpPr>
        <p:spPr>
          <a:xfrm rot="16200000">
            <a:off x="920520" y="5559120"/>
            <a:ext cx="99396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 (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AutoShape 94"/>
          <p:cNvSpPr/>
          <p:nvPr/>
        </p:nvSpPr>
        <p:spPr>
          <a:xfrm rot="16200000">
            <a:off x="1104840" y="8172360"/>
            <a:ext cx="444600" cy="355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24" name="Group 95"/>
          <p:cNvGrpSpPr/>
          <p:nvPr/>
        </p:nvGrpSpPr>
        <p:grpSpPr>
          <a:xfrm>
            <a:off x="6913440" y="2806560"/>
            <a:ext cx="4008240" cy="534960"/>
            <a:chOff x="6913440" y="2806560"/>
            <a:chExt cx="4008240" cy="534960"/>
          </a:xfrm>
        </p:grpSpPr>
        <p:sp>
          <p:nvSpPr>
            <p:cNvPr id="525" name="Rectangle 96"/>
            <p:cNvSpPr/>
            <p:nvPr/>
          </p:nvSpPr>
          <p:spPr>
            <a:xfrm>
              <a:off x="6913440" y="2806560"/>
              <a:ext cx="4008240" cy="53496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6" name="Rectangle 97"/>
            <p:cNvSpPr/>
            <p:nvPr/>
          </p:nvSpPr>
          <p:spPr>
            <a:xfrm>
              <a:off x="6913440" y="2806560"/>
              <a:ext cx="4002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 Axioms (T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7" name=""/>
          <p:cNvGraphicFramePr/>
          <p:nvPr/>
        </p:nvGraphicFramePr>
        <p:xfrm>
          <a:off x="6913440" y="3352680"/>
          <a:ext cx="4008600" cy="93204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val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28" name="Group 115"/>
          <p:cNvGrpSpPr/>
          <p:nvPr/>
        </p:nvGrpSpPr>
        <p:grpSpPr>
          <a:xfrm>
            <a:off x="6913440" y="4519440"/>
            <a:ext cx="4008240" cy="536400"/>
            <a:chOff x="6913440" y="4519440"/>
            <a:chExt cx="4008240" cy="536400"/>
          </a:xfrm>
        </p:grpSpPr>
        <p:sp>
          <p:nvSpPr>
            <p:cNvPr id="529" name="Rectangle 116"/>
            <p:cNvSpPr/>
            <p:nvPr/>
          </p:nvSpPr>
          <p:spPr>
            <a:xfrm>
              <a:off x="6913440" y="4519440"/>
              <a:ext cx="4008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0" name="Rectangle 117"/>
            <p:cNvSpPr/>
            <p:nvPr/>
          </p:nvSpPr>
          <p:spPr>
            <a:xfrm>
              <a:off x="6913440" y="4519440"/>
              <a:ext cx="400212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 Axioms (R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31" name="Group 118"/>
          <p:cNvGrpSpPr/>
          <p:nvPr/>
        </p:nvGrpSpPr>
        <p:grpSpPr>
          <a:xfrm>
            <a:off x="6916680" y="6114960"/>
            <a:ext cx="4006800" cy="536400"/>
            <a:chOff x="6916680" y="6114960"/>
            <a:chExt cx="4006800" cy="536400"/>
          </a:xfrm>
        </p:grpSpPr>
        <p:sp>
          <p:nvSpPr>
            <p:cNvPr id="532" name="Rectangle 119"/>
            <p:cNvSpPr/>
            <p:nvPr/>
          </p:nvSpPr>
          <p:spPr>
            <a:xfrm>
              <a:off x="6916680" y="6114960"/>
              <a:ext cx="400680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3" name="Rectangle 120"/>
            <p:cNvSpPr/>
            <p:nvPr/>
          </p:nvSpPr>
          <p:spPr>
            <a:xfrm>
              <a:off x="6916680" y="6114960"/>
              <a:ext cx="400068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sertional Axioms (A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34" name=""/>
          <p:cNvGraphicFramePr/>
          <p:nvPr/>
        </p:nvGraphicFramePr>
        <p:xfrm>
          <a:off x="6916680" y="6611760"/>
          <a:ext cx="4006800" cy="1959120"/>
        </p:xfrm>
        <a:graphic>
          <a:graphicData uri="http://schemas.openxmlformats.org/drawingml/2006/table">
            <a:tbl>
              <a:tblPr/>
              <a:tblGrid>
                <a:gridCol w="2247840"/>
                <a:gridCol w="1758960"/>
              </a:tblGrid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(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5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(a,b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=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er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≠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5" name="AutoShape 152"/>
          <p:cNvSpPr/>
          <p:nvPr/>
        </p:nvSpPr>
        <p:spPr>
          <a:xfrm rot="16200000">
            <a:off x="6476400" y="5105880"/>
            <a:ext cx="446040" cy="35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AutoShape 153"/>
          <p:cNvSpPr/>
          <p:nvPr/>
        </p:nvSpPr>
        <p:spPr>
          <a:xfrm rot="16200000">
            <a:off x="1193040" y="6277320"/>
            <a:ext cx="447480" cy="351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AutoShape 154"/>
          <p:cNvSpPr/>
          <p:nvPr/>
        </p:nvSpPr>
        <p:spPr>
          <a:xfrm rot="16200000">
            <a:off x="6477120" y="5557320"/>
            <a:ext cx="446040" cy="351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6913440" y="5059440"/>
          <a:ext cx="4008600" cy="94752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30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v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rans(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9" name="Rectangle 172"/>
          <p:cNvSpPr/>
          <p:nvPr/>
        </p:nvSpPr>
        <p:spPr>
          <a:xfrm>
            <a:off x="1058760" y="8839080"/>
            <a:ext cx="1193796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Transi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OWL DL = </a:t>
            </a:r>
            <a:r>
              <a:rPr b="0" lang="en-US" sz="2800" spc="-1" strike="noStrike">
                <a:solidFill>
                  <a:srgbClr val="cc0000"/>
                </a:solidFill>
                <a:latin typeface="Lucida Calligraphy"/>
                <a:ea typeface="Lucida Calligraphy"/>
              </a:rPr>
              <a:t>SHOI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: concrete domai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C83B-6676-41B1-B4C4-78EB928C9B6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4A6A-7252-4036-8807-188B684BCCC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66800" y="7129080"/>
            <a:ext cx="11049120" cy="26240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big komplexes Schachteln von Konstruktoren erlaub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Doctor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Doc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460440" y="2900520"/>
            <a:ext cx="121870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7ACE-B508-4429-98A3-C0BD26606F6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Axio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93720" y="6982920"/>
            <a:ext cx="11049120" cy="3443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eral Class Inclusi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) genügt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gdw (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ffensichtliche FOL-Äquivalenze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 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Modern No. 20"/>
                <a:ea typeface="Modern No. 20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tretch/>
        </p:blipFill>
        <p:spPr>
          <a:xfrm>
            <a:off x="1492200" y="1862280"/>
            <a:ext cx="11061720" cy="48258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"/>
          <p:cNvPicPr/>
          <p:nvPr/>
        </p:nvPicPr>
        <p:blipFill>
          <a:blip r:embed="rId2"/>
          <a:srcRect l="20020" t="32712" r="64477" b="58608"/>
          <a:stretch/>
        </p:blipFill>
        <p:spPr>
          <a:xfrm>
            <a:off x="2374920" y="3441600"/>
            <a:ext cx="1714320" cy="41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D360-3C92-4FF1-92B1-D5A214F9702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45520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SC ITC TT-Book"/>
              </a:rPr>
              <a:t>Wissensmodellierung OWA vs. CWA</a:t>
            </a:r>
            <a:endParaRPr b="0" lang="en-US" sz="6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3695760" y="7948440"/>
            <a:ext cx="3898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52" name="Group 3"/>
          <p:cNvGrpSpPr/>
          <p:nvPr/>
        </p:nvGrpSpPr>
        <p:grpSpPr>
          <a:xfrm>
            <a:off x="723960" y="7537320"/>
            <a:ext cx="2870280" cy="1227960"/>
            <a:chOff x="723960" y="7537320"/>
            <a:chExt cx="2870280" cy="1227960"/>
          </a:xfrm>
        </p:grpSpPr>
        <p:grpSp>
          <p:nvGrpSpPr>
            <p:cNvPr id="553" name="Group 4"/>
            <p:cNvGrpSpPr/>
            <p:nvPr/>
          </p:nvGrpSpPr>
          <p:grpSpPr>
            <a:xfrm>
              <a:off x="723960" y="7537320"/>
              <a:ext cx="2870280" cy="616320"/>
              <a:chOff x="723960" y="7537320"/>
              <a:chExt cx="2870280" cy="616320"/>
            </a:xfrm>
          </p:grpSpPr>
          <p:sp>
            <p:nvSpPr>
              <p:cNvPr id="554" name="Rectangle 5"/>
              <p:cNvSpPr/>
              <p:nvPr/>
            </p:nvSpPr>
            <p:spPr>
              <a:xfrm>
                <a:off x="723960" y="753732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5" name="Rectangle 6"/>
              <p:cNvSpPr/>
              <p:nvPr/>
            </p:nvSpPr>
            <p:spPr>
              <a:xfrm>
                <a:off x="723960" y="753732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child(Bill,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56" name="Group 7"/>
            <p:cNvGrpSpPr/>
            <p:nvPr/>
          </p:nvGrpSpPr>
          <p:grpSpPr>
            <a:xfrm>
              <a:off x="723960" y="8148960"/>
              <a:ext cx="2870280" cy="616320"/>
              <a:chOff x="723960" y="8148960"/>
              <a:chExt cx="2870280" cy="616320"/>
            </a:xfrm>
          </p:grpSpPr>
          <p:sp>
            <p:nvSpPr>
              <p:cNvPr id="557" name="Rectangle 8"/>
              <p:cNvSpPr/>
              <p:nvPr/>
            </p:nvSpPr>
            <p:spPr>
              <a:xfrm>
                <a:off x="723960" y="814896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8" name="Rectangle 9"/>
              <p:cNvSpPr/>
              <p:nvPr/>
            </p:nvSpPr>
            <p:spPr>
              <a:xfrm>
                <a:off x="723960" y="814896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Man(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559" name="Rectangle 10"/>
          <p:cNvSpPr/>
          <p:nvPr/>
        </p:nvSpPr>
        <p:spPr>
          <a:xfrm>
            <a:off x="7381800" y="7943760"/>
            <a:ext cx="2349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ec00"/>
                </a:solidFill>
                <a:latin typeface="Arial"/>
                <a:ea typeface="Arial"/>
              </a:rPr>
              <a:t>don’t kn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9947160" y="794376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Rectangle 12"/>
          <p:cNvSpPr/>
          <p:nvPr/>
        </p:nvSpPr>
        <p:spPr>
          <a:xfrm>
            <a:off x="7381800" y="7429680"/>
            <a:ext cx="25653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DL answ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9947160" y="7429680"/>
            <a:ext cx="2349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Pro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3" name="Group 14"/>
          <p:cNvGrpSpPr/>
          <p:nvPr/>
        </p:nvGrpSpPr>
        <p:grpSpPr>
          <a:xfrm>
            <a:off x="3695760" y="6615000"/>
            <a:ext cx="2862360" cy="863640"/>
            <a:chOff x="3695760" y="6615000"/>
            <a:chExt cx="2862360" cy="863640"/>
          </a:xfrm>
        </p:grpSpPr>
        <p:sp>
          <p:nvSpPr>
            <p:cNvPr id="564" name="Rectangle 15"/>
            <p:cNvSpPr/>
            <p:nvPr/>
          </p:nvSpPr>
          <p:spPr>
            <a:xfrm>
              <a:off x="3695760" y="6615000"/>
              <a:ext cx="286236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5" name="Rectangle 16"/>
            <p:cNvSpPr/>
            <p:nvPr/>
          </p:nvSpPr>
          <p:spPr>
            <a:xfrm>
              <a:off x="3699000" y="6615000"/>
              <a:ext cx="2857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all children of Bill male?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6" name="Group 17"/>
          <p:cNvGrpSpPr/>
          <p:nvPr/>
        </p:nvGrpSpPr>
        <p:grpSpPr>
          <a:xfrm>
            <a:off x="6769080" y="6000840"/>
            <a:ext cx="2862360" cy="1231920"/>
            <a:chOff x="6769080" y="6000840"/>
            <a:chExt cx="2862360" cy="1231920"/>
          </a:xfrm>
        </p:grpSpPr>
        <p:sp>
          <p:nvSpPr>
            <p:cNvPr id="567" name="Rectangle 18"/>
            <p:cNvSpPr/>
            <p:nvPr/>
          </p:nvSpPr>
          <p:spPr>
            <a:xfrm>
              <a:off x="6769080" y="6000840"/>
              <a:ext cx="2862360" cy="123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Rectangle 19"/>
            <p:cNvSpPr/>
            <p:nvPr/>
          </p:nvSpPr>
          <p:spPr>
            <a:xfrm>
              <a:off x="6772320" y="6000840"/>
              <a:ext cx="285732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idea, since we do not know all children of Bill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9" name="Group 20"/>
          <p:cNvGrpSpPr/>
          <p:nvPr/>
        </p:nvGrpSpPr>
        <p:grpSpPr>
          <a:xfrm>
            <a:off x="9739440" y="5794200"/>
            <a:ext cx="3184200" cy="1538280"/>
            <a:chOff x="9739440" y="5794200"/>
            <a:chExt cx="3184200" cy="1538280"/>
          </a:xfrm>
        </p:grpSpPr>
        <p:sp>
          <p:nvSpPr>
            <p:cNvPr id="570" name="Rectangle 21"/>
            <p:cNvSpPr/>
            <p:nvPr/>
          </p:nvSpPr>
          <p:spPr>
            <a:xfrm>
              <a:off x="9739440" y="5794200"/>
              <a:ext cx="318420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1" name="Rectangle 22"/>
            <p:cNvSpPr/>
            <p:nvPr/>
          </p:nvSpPr>
          <p:spPr>
            <a:xfrm>
              <a:off x="9739440" y="5794200"/>
              <a:ext cx="31762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we assume that we know everything about Bill, then all of his children are male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2" name="Line 23"/>
          <p:cNvSpPr/>
          <p:nvPr/>
        </p:nvSpPr>
        <p:spPr>
          <a:xfrm>
            <a:off x="520560" y="8766000"/>
            <a:ext cx="120780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3" name="Group 24"/>
          <p:cNvGrpSpPr/>
          <p:nvPr/>
        </p:nvGrpSpPr>
        <p:grpSpPr>
          <a:xfrm>
            <a:off x="725400" y="8766000"/>
            <a:ext cx="2870280" cy="615960"/>
            <a:chOff x="725400" y="8766000"/>
            <a:chExt cx="2870280" cy="615960"/>
          </a:xfrm>
        </p:grpSpPr>
        <p:sp>
          <p:nvSpPr>
            <p:cNvPr id="574" name="Rectangle 25"/>
            <p:cNvSpPr/>
            <p:nvPr/>
          </p:nvSpPr>
          <p:spPr>
            <a:xfrm>
              <a:off x="725400" y="8766000"/>
              <a:ext cx="2870280" cy="61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5" name="Rectangle 26"/>
            <p:cNvSpPr/>
            <p:nvPr/>
          </p:nvSpPr>
          <p:spPr>
            <a:xfrm>
              <a:off x="725400" y="8766000"/>
              <a:ext cx="2870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≤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1 child.T(Bill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6" name="Rectangle 27"/>
          <p:cNvSpPr/>
          <p:nvPr/>
        </p:nvSpPr>
        <p:spPr>
          <a:xfrm>
            <a:off x="3695760" y="8867880"/>
            <a:ext cx="3898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28"/>
          <p:cNvSpPr/>
          <p:nvPr/>
        </p:nvSpPr>
        <p:spPr>
          <a:xfrm>
            <a:off x="7486560" y="886608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8" name="Group 29"/>
          <p:cNvGrpSpPr/>
          <p:nvPr/>
        </p:nvGrpSpPr>
        <p:grpSpPr>
          <a:xfrm>
            <a:off x="8920080" y="8867880"/>
            <a:ext cx="3784320" cy="819000"/>
            <a:chOff x="8920080" y="8867880"/>
            <a:chExt cx="3784320" cy="819000"/>
          </a:xfrm>
        </p:grpSpPr>
        <p:sp>
          <p:nvSpPr>
            <p:cNvPr id="579" name="Rectangle 30"/>
            <p:cNvSpPr/>
            <p:nvPr/>
          </p:nvSpPr>
          <p:spPr>
            <a:xfrm>
              <a:off x="8920080" y="8867880"/>
              <a:ext cx="3784320" cy="81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0" name="Rectangle 31"/>
            <p:cNvSpPr/>
            <p:nvPr/>
          </p:nvSpPr>
          <p:spPr>
            <a:xfrm>
              <a:off x="8926560" y="8867880"/>
              <a:ext cx="37731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 we know everything about Bill’s children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1" name="Rectangle 32"/>
          <p:cNvSpPr/>
          <p:nvPr/>
        </p:nvSpPr>
        <p:spPr>
          <a:xfrm>
            <a:off x="932040" y="2209680"/>
            <a:ext cx="115948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A: Open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e Existenz von weiteren Individuen ist möglich, sofern s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 explizit ausgeschlossen wir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OWL verwendet OWA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WA: Closed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wird angenommen, dass die Wissensbasis alle Individu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häl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C2C3-B5D5-4299-B647-6922521DE38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0976-1254-4A80-81E1-ECBFB8AAB70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ichtige Inferenzproble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Konsistenz der Wissens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  <a:ea typeface="msam10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Wissensbasis sinnvoll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s Klasse C leer sein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kturierung der Wissensbasi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eigentlich dieselbe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disjunkt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(a)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Individuum a in der Klasse C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„alle X mit C(X) finden“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e alle (bekannten!) Individuen zur Klasse C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3B90-60B9-43FA-B3DE-A249F99CAD7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ntscheidbarkeit von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cheidbarkeit: zu jedem Inferenzproblem gibt es einen immer terminierenden Algorithm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Fragment von FOL, also könnten (im Prinzip) FOL-Inferenzalgorithmen (Resolution, Tableaux)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se terminieren aber nicht imme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blem: Finde immer terminierende Algorithmen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eine „naiven“ Lösungen in Sicht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AE3E-7A4C-4FEA-9B8A-5319952C13A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werden Tableau- und Resolutionsverfahren für OWL DL ab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auer: Wir werden nur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h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- und Resolutionsverfahren zeigen Unerfüllbarkeit einer Theori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ückführung der Inferenzprobleme auf das Finden von Inkonsistenten in der Wissensbasis,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zeigen der Unerfüllbarkeit der Wissensbasis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5445-F056-4E70-9613-A53E773DBAB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alle C(X) find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üfe Klassenzugehörigkeit für alle Individu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werer, dies gut zu implementiere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9439-68C7-4472-B009-96D49562552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0380-DD6F-4E25-AEC0-2F13B6E9412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2618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eine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ende die Regeln auf der folgenden Folie an, bis es nicht mehr geh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ultierende Wissensbasis: NNF(W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snormalfor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von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steht nur noch direkt vor atomaren Kla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4BF3-3139-4705-A2BF-D1173B6C85B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5582-AE34-4985-80EC-18A6355C36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98320" y="1999800"/>
            <a:ext cx="11048760" cy="81932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) = 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NNF(C)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W und NNF(W) sind logisch äquivalen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B6EF-17AF-4180-AACE-33A371CFB41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NN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 Negationsnormalform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C25D-1CEA-4B9A-AE11-BE1DEA2652A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aives Tableauverfah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ückführung auf Unerfüllbarkeit/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de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eugen von Konsequenzen der Form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bis Widerspruch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3F06-2800-456A-9FD1-CD8AA97FDEC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logische Konsequenz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Formel in 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aus folgt u.a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 ist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BB32-035D-4F1D-97A3-9CF29DCD3CA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weiter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983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leitung von Konsequenz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un Fallunterscheid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D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6383160" y="8358120"/>
            <a:ext cx="585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ilen des Tableaus in zwe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wei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2233-5659-4F40-B8BB-500A084CFB0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Defini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 von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R(a,b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Endliche Menge von Tableauzweig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wenn er ein Paar widersprüchlicher Aussgen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 enthäl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wenn jeder Zweig von ihm abgeschlossen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BDC3-263B-49FE-9C52-EB1111CE5B6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rzeug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66440" y="5900760"/>
            <a:ext cx="11674440" cy="38527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das resultierende Tableau abgeschlossen, so ist die ursprüngliche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an wählt dabei immer nur solche Elemente aus, die auch wirklich zu neuen Elementen im Tableau führen. Ist dies nicht möglich, so terminiert der Algorithmus und die Wissensbasis ist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5" name="Picture 3" descr=""/>
          <p:cNvPicPr/>
          <p:nvPr/>
        </p:nvPicPr>
        <p:blipFill>
          <a:blip r:embed="rId1"/>
          <a:stretch/>
        </p:blipFill>
        <p:spPr>
          <a:xfrm>
            <a:off x="1449360" y="2019240"/>
            <a:ext cx="1132848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799D-D8D6-42A4-A381-05A6352E817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1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… Professo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… Perso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 … Universitätsangehörige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 … Doktoran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: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 logische Konsequenz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 (mit Anfrage) in NN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, 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1DD6-F9BD-4D63-8707-61D2998643A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2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93720" y="2046240"/>
            <a:ext cx="11049120" cy="6229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us Wissensbasis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976320" y="5938920"/>
            <a:ext cx="1638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5483160" y="5938920"/>
            <a:ext cx="5423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8862840" y="6757920"/>
            <a:ext cx="2870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4662360" y="6757920"/>
            <a:ext cx="22608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1490760" y="8907480"/>
            <a:ext cx="11048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Wissensbasis ist unerfüllbar, d.h.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5F61-DD8D-459C-A0BE-477A1C21C78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erminierungsproblem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225760" y="1849320"/>
            <a:ext cx="11791800" cy="9273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103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640" name="Group 3"/>
          <p:cNvGrpSpPr/>
          <p:nvPr/>
        </p:nvGrpSpPr>
        <p:grpSpPr>
          <a:xfrm>
            <a:off x="1584360" y="2620800"/>
            <a:ext cx="5638680" cy="512640"/>
            <a:chOff x="1584360" y="2620800"/>
            <a:chExt cx="5638680" cy="512640"/>
          </a:xfrm>
        </p:grpSpPr>
        <p:sp>
          <p:nvSpPr>
            <p:cNvPr id="641" name="Rectangle 4"/>
            <p:cNvSpPr/>
            <p:nvPr/>
          </p:nvSpPr>
          <p:spPr>
            <a:xfrm>
              <a:off x="1585800" y="262080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5"/>
            <p:cNvSpPr/>
            <p:nvPr/>
          </p:nvSpPr>
          <p:spPr>
            <a:xfrm>
              <a:off x="1584360" y="262080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6"/>
          <p:cNvGrpSpPr/>
          <p:nvPr/>
        </p:nvGrpSpPr>
        <p:grpSpPr>
          <a:xfrm>
            <a:off x="4145040" y="4157640"/>
            <a:ext cx="5333760" cy="927000"/>
            <a:chOff x="4145040" y="4157640"/>
            <a:chExt cx="5333760" cy="927000"/>
          </a:xfrm>
        </p:grpSpPr>
        <p:sp>
          <p:nvSpPr>
            <p:cNvPr id="644" name="Rectangle 7"/>
            <p:cNvSpPr/>
            <p:nvPr/>
          </p:nvSpPr>
          <p:spPr>
            <a:xfrm>
              <a:off x="4145040" y="4157640"/>
              <a:ext cx="5325840" cy="9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Rectangle 8"/>
            <p:cNvSpPr/>
            <p:nvPr/>
          </p:nvSpPr>
          <p:spPr>
            <a:xfrm>
              <a:off x="4145040" y="4157640"/>
              <a:ext cx="5333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Bill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Group 9"/>
          <p:cNvGrpSpPr/>
          <p:nvPr/>
        </p:nvGrpSpPr>
        <p:grpSpPr>
          <a:xfrm>
            <a:off x="9470880" y="4254480"/>
            <a:ext cx="927000" cy="304920"/>
            <a:chOff x="9470880" y="4254480"/>
            <a:chExt cx="927000" cy="304920"/>
          </a:xfrm>
        </p:grpSpPr>
        <p:sp>
          <p:nvSpPr>
            <p:cNvPr id="647" name="Line 10"/>
            <p:cNvSpPr/>
            <p:nvPr/>
          </p:nvSpPr>
          <p:spPr>
            <a:xfrm flipH="1">
              <a:off x="9470880" y="4462560"/>
              <a:ext cx="5097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Rectangle 11"/>
            <p:cNvSpPr/>
            <p:nvPr/>
          </p:nvSpPr>
          <p:spPr>
            <a:xfrm>
              <a:off x="9978840" y="425448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Group 12"/>
          <p:cNvGrpSpPr/>
          <p:nvPr/>
        </p:nvGrpSpPr>
        <p:grpSpPr>
          <a:xfrm>
            <a:off x="1585800" y="3133800"/>
            <a:ext cx="5638680" cy="511200"/>
            <a:chOff x="1585800" y="3133800"/>
            <a:chExt cx="5638680" cy="511200"/>
          </a:xfrm>
        </p:grpSpPr>
        <p:sp>
          <p:nvSpPr>
            <p:cNvPr id="650" name="Rectangle 13"/>
            <p:cNvSpPr/>
            <p:nvPr/>
          </p:nvSpPr>
          <p:spPr>
            <a:xfrm>
              <a:off x="1585800" y="3133800"/>
              <a:ext cx="563400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Rectangle 14"/>
            <p:cNvSpPr/>
            <p:nvPr/>
          </p:nvSpPr>
          <p:spPr>
            <a:xfrm>
              <a:off x="1585800" y="3133800"/>
              <a:ext cx="5638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Group 15"/>
          <p:cNvGrpSpPr/>
          <p:nvPr/>
        </p:nvGrpSpPr>
        <p:grpSpPr>
          <a:xfrm>
            <a:off x="1585800" y="3645000"/>
            <a:ext cx="2146320" cy="511200"/>
            <a:chOff x="1585800" y="3645000"/>
            <a:chExt cx="2146320" cy="511200"/>
          </a:xfrm>
        </p:grpSpPr>
        <p:sp>
          <p:nvSpPr>
            <p:cNvPr id="653" name="Rectangle 16"/>
            <p:cNvSpPr/>
            <p:nvPr/>
          </p:nvSpPr>
          <p:spPr>
            <a:xfrm>
              <a:off x="1585800" y="3645000"/>
              <a:ext cx="21463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17"/>
            <p:cNvSpPr/>
            <p:nvPr/>
          </p:nvSpPr>
          <p:spPr>
            <a:xfrm>
              <a:off x="1585800" y="3645000"/>
              <a:ext cx="2146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5" name="Group 18"/>
          <p:cNvGrpSpPr/>
          <p:nvPr/>
        </p:nvGrpSpPr>
        <p:grpSpPr>
          <a:xfrm>
            <a:off x="4146480" y="3645000"/>
            <a:ext cx="5334120" cy="511200"/>
            <a:chOff x="4146480" y="3645000"/>
            <a:chExt cx="5334120" cy="511200"/>
          </a:xfrm>
        </p:grpSpPr>
        <p:sp>
          <p:nvSpPr>
            <p:cNvPr id="656" name="Rectangle 19"/>
            <p:cNvSpPr/>
            <p:nvPr/>
          </p:nvSpPr>
          <p:spPr>
            <a:xfrm>
              <a:off x="4146480" y="364500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Rectangle 20"/>
            <p:cNvSpPr/>
            <p:nvPr/>
          </p:nvSpPr>
          <p:spPr>
            <a:xfrm>
              <a:off x="4146480" y="3645000"/>
              <a:ext cx="5334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8" name="Group 21"/>
          <p:cNvGrpSpPr/>
          <p:nvPr/>
        </p:nvGrpSpPr>
        <p:grpSpPr>
          <a:xfrm>
            <a:off x="9472680" y="3645000"/>
            <a:ext cx="927000" cy="330120"/>
            <a:chOff x="9472680" y="3645000"/>
            <a:chExt cx="927000" cy="330120"/>
          </a:xfrm>
        </p:grpSpPr>
        <p:sp>
          <p:nvSpPr>
            <p:cNvPr id="659" name="Line 22"/>
            <p:cNvSpPr/>
            <p:nvPr/>
          </p:nvSpPr>
          <p:spPr>
            <a:xfrm flipH="1">
              <a:off x="9472680" y="3848040"/>
              <a:ext cx="5097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Rectangle 23"/>
            <p:cNvSpPr/>
            <p:nvPr/>
          </p:nvSpPr>
          <p:spPr>
            <a:xfrm>
              <a:off x="9980640" y="364500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1" name="Group 24"/>
          <p:cNvGrpSpPr/>
          <p:nvPr/>
        </p:nvGrpSpPr>
        <p:grpSpPr>
          <a:xfrm>
            <a:off x="2200320" y="4157640"/>
            <a:ext cx="537840" cy="496440"/>
            <a:chOff x="2200320" y="4157640"/>
            <a:chExt cx="537840" cy="496440"/>
          </a:xfrm>
        </p:grpSpPr>
        <p:sp>
          <p:nvSpPr>
            <p:cNvPr id="662" name="AutoShape 25"/>
            <p:cNvSpPr/>
            <p:nvPr/>
          </p:nvSpPr>
          <p:spPr>
            <a:xfrm>
              <a:off x="2200320" y="4157640"/>
              <a:ext cx="53784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26"/>
            <p:cNvSpPr/>
            <p:nvPr/>
          </p:nvSpPr>
          <p:spPr>
            <a:xfrm>
              <a:off x="2212920" y="4170240"/>
              <a:ext cx="51120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27"/>
            <p:cNvSpPr/>
            <p:nvPr/>
          </p:nvSpPr>
          <p:spPr>
            <a:xfrm>
              <a:off x="2227320" y="4184640"/>
              <a:ext cx="48420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AutoShape 28"/>
            <p:cNvSpPr/>
            <p:nvPr/>
          </p:nvSpPr>
          <p:spPr>
            <a:xfrm>
              <a:off x="2265480" y="428148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6" name="AutoShape 29"/>
            <p:cNvSpPr/>
            <p:nvPr/>
          </p:nvSpPr>
          <p:spPr>
            <a:xfrm>
              <a:off x="2365920" y="428652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7" name="AutoShape 30"/>
            <p:cNvSpPr/>
            <p:nvPr/>
          </p:nvSpPr>
          <p:spPr>
            <a:xfrm>
              <a:off x="2478960" y="428148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8" name="Line 31"/>
            <p:cNvSpPr/>
            <p:nvPr/>
          </p:nvSpPr>
          <p:spPr>
            <a:xfrm>
              <a:off x="2518560" y="432792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9" name="AutoShape 32"/>
            <p:cNvSpPr/>
            <p:nvPr/>
          </p:nvSpPr>
          <p:spPr>
            <a:xfrm>
              <a:off x="2582280" y="428652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0" name="Line 33"/>
            <p:cNvSpPr/>
            <p:nvPr/>
          </p:nvSpPr>
          <p:spPr>
            <a:xfrm>
              <a:off x="2625120" y="432936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1" name="Group 34"/>
          <p:cNvGrpSpPr/>
          <p:nvPr/>
        </p:nvGrpSpPr>
        <p:grpSpPr>
          <a:xfrm>
            <a:off x="3016080" y="5591160"/>
            <a:ext cx="1955880" cy="526680"/>
            <a:chOff x="3016080" y="5591160"/>
            <a:chExt cx="1955880" cy="526680"/>
          </a:xfrm>
        </p:grpSpPr>
        <p:sp>
          <p:nvSpPr>
            <p:cNvPr id="672" name="Rectangle 35"/>
            <p:cNvSpPr/>
            <p:nvPr/>
          </p:nvSpPr>
          <p:spPr>
            <a:xfrm>
              <a:off x="3019320" y="5591160"/>
              <a:ext cx="194292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3" name="Rectangle 36"/>
            <p:cNvSpPr/>
            <p:nvPr/>
          </p:nvSpPr>
          <p:spPr>
            <a:xfrm>
              <a:off x="3016080" y="559116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4" name="Group 37"/>
          <p:cNvGrpSpPr/>
          <p:nvPr/>
        </p:nvGrpSpPr>
        <p:grpSpPr>
          <a:xfrm>
            <a:off x="5375160" y="5591160"/>
            <a:ext cx="5638680" cy="526680"/>
            <a:chOff x="5375160" y="5591160"/>
            <a:chExt cx="5638680" cy="526680"/>
          </a:xfrm>
        </p:grpSpPr>
        <p:sp>
          <p:nvSpPr>
            <p:cNvPr id="675" name="Rectangle 38"/>
            <p:cNvSpPr/>
            <p:nvPr/>
          </p:nvSpPr>
          <p:spPr>
            <a:xfrm>
              <a:off x="5375160" y="5591160"/>
              <a:ext cx="563868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6" name="Rectangle 39"/>
            <p:cNvSpPr/>
            <p:nvPr/>
          </p:nvSpPr>
          <p:spPr>
            <a:xfrm>
              <a:off x="5375160" y="559116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7" name="Group 40"/>
          <p:cNvGrpSpPr/>
          <p:nvPr/>
        </p:nvGrpSpPr>
        <p:grpSpPr>
          <a:xfrm>
            <a:off x="11010960" y="5605560"/>
            <a:ext cx="927000" cy="330120"/>
            <a:chOff x="11010960" y="5605560"/>
            <a:chExt cx="927000" cy="330120"/>
          </a:xfrm>
        </p:grpSpPr>
        <p:sp>
          <p:nvSpPr>
            <p:cNvPr id="678" name="Line 41"/>
            <p:cNvSpPr/>
            <p:nvPr/>
          </p:nvSpPr>
          <p:spPr>
            <a:xfrm flipH="1">
              <a:off x="11010960" y="580860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9" name="Rectangle 42"/>
            <p:cNvSpPr/>
            <p:nvPr/>
          </p:nvSpPr>
          <p:spPr>
            <a:xfrm>
              <a:off x="11518920" y="560556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80" name="Group 43"/>
          <p:cNvGrpSpPr/>
          <p:nvPr/>
        </p:nvGrpSpPr>
        <p:grpSpPr>
          <a:xfrm>
            <a:off x="3429000" y="6118200"/>
            <a:ext cx="536400" cy="496440"/>
            <a:chOff x="3429000" y="6118200"/>
            <a:chExt cx="536400" cy="496440"/>
          </a:xfrm>
        </p:grpSpPr>
        <p:sp>
          <p:nvSpPr>
            <p:cNvPr id="681" name="AutoShape 44"/>
            <p:cNvSpPr/>
            <p:nvPr/>
          </p:nvSpPr>
          <p:spPr>
            <a:xfrm>
              <a:off x="3429000" y="6118200"/>
              <a:ext cx="53640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2" name="AutoShape 45"/>
            <p:cNvSpPr/>
            <p:nvPr/>
          </p:nvSpPr>
          <p:spPr>
            <a:xfrm>
              <a:off x="3441600" y="6130800"/>
              <a:ext cx="50976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3" name="AutoShape 46"/>
            <p:cNvSpPr/>
            <p:nvPr/>
          </p:nvSpPr>
          <p:spPr>
            <a:xfrm>
              <a:off x="3456000" y="6145200"/>
              <a:ext cx="48276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4" name="AutoShape 47"/>
            <p:cNvSpPr/>
            <p:nvPr/>
          </p:nvSpPr>
          <p:spPr>
            <a:xfrm>
              <a:off x="3494160" y="624204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AutoShape 48"/>
            <p:cNvSpPr/>
            <p:nvPr/>
          </p:nvSpPr>
          <p:spPr>
            <a:xfrm>
              <a:off x="3594240" y="624708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6" name="AutoShape 49"/>
            <p:cNvSpPr/>
            <p:nvPr/>
          </p:nvSpPr>
          <p:spPr>
            <a:xfrm>
              <a:off x="3706920" y="624204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7" name="Line 50"/>
            <p:cNvSpPr/>
            <p:nvPr/>
          </p:nvSpPr>
          <p:spPr>
            <a:xfrm>
              <a:off x="3746520" y="628848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8" name="AutoShape 51"/>
            <p:cNvSpPr/>
            <p:nvPr/>
          </p:nvSpPr>
          <p:spPr>
            <a:xfrm>
              <a:off x="3809880" y="624708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9" name="Line 52"/>
            <p:cNvSpPr/>
            <p:nvPr/>
          </p:nvSpPr>
          <p:spPr>
            <a:xfrm>
              <a:off x="3852720" y="628992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0" name="Group 53"/>
          <p:cNvGrpSpPr/>
          <p:nvPr/>
        </p:nvGrpSpPr>
        <p:grpSpPr>
          <a:xfrm>
            <a:off x="5372280" y="6118200"/>
            <a:ext cx="5638680" cy="906480"/>
            <a:chOff x="5372280" y="6118200"/>
            <a:chExt cx="5638680" cy="906480"/>
          </a:xfrm>
        </p:grpSpPr>
        <p:sp>
          <p:nvSpPr>
            <p:cNvPr id="691" name="Rectangle 54"/>
            <p:cNvSpPr/>
            <p:nvPr/>
          </p:nvSpPr>
          <p:spPr>
            <a:xfrm>
              <a:off x="5373720" y="6118200"/>
              <a:ext cx="5634360" cy="90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Rectangle 55"/>
            <p:cNvSpPr/>
            <p:nvPr/>
          </p:nvSpPr>
          <p:spPr>
            <a:xfrm>
              <a:off x="5372280" y="6118200"/>
              <a:ext cx="56386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3" name="Group 56"/>
          <p:cNvGrpSpPr/>
          <p:nvPr/>
        </p:nvGrpSpPr>
        <p:grpSpPr>
          <a:xfrm>
            <a:off x="11007720" y="6219720"/>
            <a:ext cx="927000" cy="304920"/>
            <a:chOff x="11007720" y="6219720"/>
            <a:chExt cx="927000" cy="304920"/>
          </a:xfrm>
        </p:grpSpPr>
        <p:sp>
          <p:nvSpPr>
            <p:cNvPr id="694" name="Line 57"/>
            <p:cNvSpPr/>
            <p:nvPr/>
          </p:nvSpPr>
          <p:spPr>
            <a:xfrm flipH="1">
              <a:off x="11007720" y="6422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5" name="Rectangle 58"/>
            <p:cNvSpPr/>
            <p:nvPr/>
          </p:nvSpPr>
          <p:spPr>
            <a:xfrm>
              <a:off x="11515680" y="621972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6" name="Group 59"/>
          <p:cNvGrpSpPr/>
          <p:nvPr/>
        </p:nvGrpSpPr>
        <p:grpSpPr>
          <a:xfrm>
            <a:off x="4143240" y="7535880"/>
            <a:ext cx="1955880" cy="528120"/>
            <a:chOff x="4143240" y="7535880"/>
            <a:chExt cx="1955880" cy="528120"/>
          </a:xfrm>
        </p:grpSpPr>
        <p:sp>
          <p:nvSpPr>
            <p:cNvPr id="697" name="Rectangle 60"/>
            <p:cNvSpPr/>
            <p:nvPr/>
          </p:nvSpPr>
          <p:spPr>
            <a:xfrm>
              <a:off x="4146480" y="7535880"/>
              <a:ext cx="19429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8" name="Rectangle 61"/>
            <p:cNvSpPr/>
            <p:nvPr/>
          </p:nvSpPr>
          <p:spPr>
            <a:xfrm>
              <a:off x="4143240" y="753588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9" name="Group 62"/>
          <p:cNvGrpSpPr/>
          <p:nvPr/>
        </p:nvGrpSpPr>
        <p:grpSpPr>
          <a:xfrm>
            <a:off x="6497640" y="7535880"/>
            <a:ext cx="3898800" cy="528120"/>
            <a:chOff x="6497640" y="7535880"/>
            <a:chExt cx="3898800" cy="528120"/>
          </a:xfrm>
        </p:grpSpPr>
        <p:sp>
          <p:nvSpPr>
            <p:cNvPr id="700" name="Rectangle 63"/>
            <p:cNvSpPr/>
            <p:nvPr/>
          </p:nvSpPr>
          <p:spPr>
            <a:xfrm>
              <a:off x="6500880" y="7535880"/>
              <a:ext cx="38923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1" name="Rectangle 64"/>
            <p:cNvSpPr/>
            <p:nvPr/>
          </p:nvSpPr>
          <p:spPr>
            <a:xfrm>
              <a:off x="6497640" y="7535880"/>
              <a:ext cx="38988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2" name="Group 65"/>
          <p:cNvGrpSpPr/>
          <p:nvPr/>
        </p:nvGrpSpPr>
        <p:grpSpPr>
          <a:xfrm>
            <a:off x="10393200" y="7551720"/>
            <a:ext cx="927000" cy="330120"/>
            <a:chOff x="10393200" y="7551720"/>
            <a:chExt cx="927000" cy="330120"/>
          </a:xfrm>
        </p:grpSpPr>
        <p:sp>
          <p:nvSpPr>
            <p:cNvPr id="703" name="Line 66"/>
            <p:cNvSpPr/>
            <p:nvPr/>
          </p:nvSpPr>
          <p:spPr>
            <a:xfrm flipH="1">
              <a:off x="10393200" y="7754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4" name="Rectangle 67"/>
            <p:cNvSpPr/>
            <p:nvPr/>
          </p:nvSpPr>
          <p:spPr>
            <a:xfrm>
              <a:off x="10901160" y="755172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5" name="Group 68"/>
          <p:cNvGrpSpPr/>
          <p:nvPr/>
        </p:nvGrpSpPr>
        <p:grpSpPr>
          <a:xfrm>
            <a:off x="4556160" y="8064360"/>
            <a:ext cx="536400" cy="496800"/>
            <a:chOff x="4556160" y="8064360"/>
            <a:chExt cx="536400" cy="496800"/>
          </a:xfrm>
        </p:grpSpPr>
        <p:sp>
          <p:nvSpPr>
            <p:cNvPr id="706" name="AutoShape 69"/>
            <p:cNvSpPr/>
            <p:nvPr/>
          </p:nvSpPr>
          <p:spPr>
            <a:xfrm>
              <a:off x="4556160" y="8064360"/>
              <a:ext cx="536400" cy="49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70"/>
            <p:cNvSpPr/>
            <p:nvPr/>
          </p:nvSpPr>
          <p:spPr>
            <a:xfrm>
              <a:off x="4568760" y="8076960"/>
              <a:ext cx="50976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AutoShape 71"/>
            <p:cNvSpPr/>
            <p:nvPr/>
          </p:nvSpPr>
          <p:spPr>
            <a:xfrm>
              <a:off x="4583160" y="8091360"/>
              <a:ext cx="482760" cy="442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9" name="AutoShape 72"/>
            <p:cNvSpPr/>
            <p:nvPr/>
          </p:nvSpPr>
          <p:spPr>
            <a:xfrm>
              <a:off x="4621320" y="8188560"/>
              <a:ext cx="936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0" name="AutoShape 73"/>
            <p:cNvSpPr/>
            <p:nvPr/>
          </p:nvSpPr>
          <p:spPr>
            <a:xfrm>
              <a:off x="4721400" y="8193240"/>
              <a:ext cx="10620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1" name="AutoShape 74"/>
            <p:cNvSpPr/>
            <p:nvPr/>
          </p:nvSpPr>
          <p:spPr>
            <a:xfrm>
              <a:off x="4834080" y="8188560"/>
              <a:ext cx="918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2" name="Line 75"/>
            <p:cNvSpPr/>
            <p:nvPr/>
          </p:nvSpPr>
          <p:spPr>
            <a:xfrm>
              <a:off x="4873680" y="823464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3" name="AutoShape 76"/>
            <p:cNvSpPr/>
            <p:nvPr/>
          </p:nvSpPr>
          <p:spPr>
            <a:xfrm>
              <a:off x="4937040" y="8193240"/>
              <a:ext cx="9684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4" name="Line 77"/>
            <p:cNvSpPr/>
            <p:nvPr/>
          </p:nvSpPr>
          <p:spPr>
            <a:xfrm>
              <a:off x="4979880" y="823608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5" name="Group 78"/>
          <p:cNvGrpSpPr/>
          <p:nvPr/>
        </p:nvGrpSpPr>
        <p:grpSpPr>
          <a:xfrm>
            <a:off x="4146480" y="5079960"/>
            <a:ext cx="5334120" cy="511200"/>
            <a:chOff x="4146480" y="5079960"/>
            <a:chExt cx="5334120" cy="511200"/>
          </a:xfrm>
        </p:grpSpPr>
        <p:sp>
          <p:nvSpPr>
            <p:cNvPr id="716" name="Rectangle 79"/>
            <p:cNvSpPr/>
            <p:nvPr/>
          </p:nvSpPr>
          <p:spPr>
            <a:xfrm>
              <a:off x="4146480" y="507996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7" name="Rectangle 80"/>
            <p:cNvSpPr/>
            <p:nvPr/>
          </p:nvSpPr>
          <p:spPr>
            <a:xfrm>
              <a:off x="4146480" y="5079960"/>
              <a:ext cx="5334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8" name="Group 81"/>
          <p:cNvGrpSpPr/>
          <p:nvPr/>
        </p:nvGrpSpPr>
        <p:grpSpPr>
          <a:xfrm>
            <a:off x="5375160" y="7024680"/>
            <a:ext cx="5638680" cy="512280"/>
            <a:chOff x="5375160" y="7024680"/>
            <a:chExt cx="5638680" cy="512280"/>
          </a:xfrm>
        </p:grpSpPr>
        <p:sp>
          <p:nvSpPr>
            <p:cNvPr id="719" name="Rectangle 82"/>
            <p:cNvSpPr/>
            <p:nvPr/>
          </p:nvSpPr>
          <p:spPr>
            <a:xfrm>
              <a:off x="5375160" y="7024680"/>
              <a:ext cx="5638680" cy="51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0" name="Rectangle 83"/>
            <p:cNvSpPr/>
            <p:nvPr/>
          </p:nvSpPr>
          <p:spPr>
            <a:xfrm>
              <a:off x="5375160" y="702468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21" name="Group 84"/>
          <p:cNvGrpSpPr/>
          <p:nvPr/>
        </p:nvGrpSpPr>
        <p:grpSpPr>
          <a:xfrm>
            <a:off x="8143920" y="8064360"/>
            <a:ext cx="1395360" cy="1622160"/>
            <a:chOff x="8143920" y="8064360"/>
            <a:chExt cx="1395360" cy="1622160"/>
          </a:xfrm>
        </p:grpSpPr>
        <p:sp>
          <p:nvSpPr>
            <p:cNvPr id="722" name="AutoShape 85"/>
            <p:cNvSpPr/>
            <p:nvPr/>
          </p:nvSpPr>
          <p:spPr>
            <a:xfrm>
              <a:off x="8169480" y="9548640"/>
              <a:ext cx="759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3" name="AutoShape 86"/>
            <p:cNvSpPr/>
            <p:nvPr/>
          </p:nvSpPr>
          <p:spPr>
            <a:xfrm>
              <a:off x="8143920" y="8064360"/>
              <a:ext cx="1395360" cy="162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4" name="AutoShape 87"/>
            <p:cNvSpPr/>
            <p:nvPr/>
          </p:nvSpPr>
          <p:spPr>
            <a:xfrm>
              <a:off x="8159760" y="8080200"/>
              <a:ext cx="9540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5" name="AutoShape 88"/>
            <p:cNvSpPr/>
            <p:nvPr/>
          </p:nvSpPr>
          <p:spPr>
            <a:xfrm>
              <a:off x="8242200" y="8100720"/>
              <a:ext cx="208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6" name="AutoShape 89"/>
            <p:cNvSpPr/>
            <p:nvPr/>
          </p:nvSpPr>
          <p:spPr>
            <a:xfrm>
              <a:off x="8172360" y="8154720"/>
              <a:ext cx="84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7" name="AutoShape 90"/>
            <p:cNvSpPr/>
            <p:nvPr/>
          </p:nvSpPr>
          <p:spPr>
            <a:xfrm>
              <a:off x="8190000" y="8196120"/>
              <a:ext cx="3636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8" name="Line 91"/>
            <p:cNvSpPr/>
            <p:nvPr/>
          </p:nvSpPr>
          <p:spPr>
            <a:xfrm>
              <a:off x="8231400" y="8197560"/>
              <a:ext cx="7920" cy="63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9" name="AutoShape 92"/>
            <p:cNvSpPr/>
            <p:nvPr/>
          </p:nvSpPr>
          <p:spPr>
            <a:xfrm>
              <a:off x="8177400" y="8273880"/>
              <a:ext cx="1334880" cy="127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0" name="AutoShape 93"/>
            <p:cNvSpPr/>
            <p:nvPr/>
          </p:nvSpPr>
          <p:spPr>
            <a:xfrm>
              <a:off x="8190000" y="8343720"/>
              <a:ext cx="3636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1" name="Line 94"/>
            <p:cNvSpPr/>
            <p:nvPr/>
          </p:nvSpPr>
          <p:spPr>
            <a:xfrm>
              <a:off x="8229600" y="8346960"/>
              <a:ext cx="7920" cy="106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2" name="AutoShape 95"/>
            <p:cNvSpPr/>
            <p:nvPr/>
          </p:nvSpPr>
          <p:spPr>
            <a:xfrm>
              <a:off x="8626680" y="8421840"/>
              <a:ext cx="396720" cy="47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3" name="Line 96"/>
            <p:cNvSpPr/>
            <p:nvPr/>
          </p:nvSpPr>
          <p:spPr>
            <a:xfrm>
              <a:off x="8236080" y="8456760"/>
              <a:ext cx="3240" cy="1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4" name="AutoShape 97"/>
            <p:cNvSpPr/>
            <p:nvPr/>
          </p:nvSpPr>
          <p:spPr>
            <a:xfrm>
              <a:off x="8190000" y="8542440"/>
              <a:ext cx="3492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5" name="Line 98"/>
            <p:cNvSpPr/>
            <p:nvPr/>
          </p:nvSpPr>
          <p:spPr>
            <a:xfrm>
              <a:off x="8232840" y="8561520"/>
              <a:ext cx="6480" cy="52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6" name="Rectangle 99"/>
            <p:cNvSpPr/>
            <p:nvPr/>
          </p:nvSpPr>
          <p:spPr>
            <a:xfrm>
              <a:off x="8239320" y="8609400"/>
              <a:ext cx="14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7" name="Line 100"/>
            <p:cNvSpPr/>
            <p:nvPr/>
          </p:nvSpPr>
          <p:spPr>
            <a:xfrm>
              <a:off x="8234280" y="8622000"/>
              <a:ext cx="5040" cy="25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8" name="AutoShape 101"/>
            <p:cNvSpPr/>
            <p:nvPr/>
          </p:nvSpPr>
          <p:spPr>
            <a:xfrm>
              <a:off x="8672400" y="8633160"/>
              <a:ext cx="12564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9" name="AutoShape 102"/>
            <p:cNvSpPr/>
            <p:nvPr/>
          </p:nvSpPr>
          <p:spPr>
            <a:xfrm>
              <a:off x="8850240" y="8642520"/>
              <a:ext cx="1224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0" name="AutoShape 103"/>
            <p:cNvSpPr/>
            <p:nvPr/>
          </p:nvSpPr>
          <p:spPr>
            <a:xfrm>
              <a:off x="8190000" y="8725320"/>
              <a:ext cx="3492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1" name="AutoShape 104"/>
            <p:cNvSpPr/>
            <p:nvPr/>
          </p:nvSpPr>
          <p:spPr>
            <a:xfrm>
              <a:off x="8796240" y="8731800"/>
              <a:ext cx="5400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2" name="Line 105"/>
            <p:cNvSpPr/>
            <p:nvPr/>
          </p:nvSpPr>
          <p:spPr>
            <a:xfrm>
              <a:off x="8234280" y="8731800"/>
              <a:ext cx="5040" cy="9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3" name="AutoShape 106"/>
            <p:cNvSpPr/>
            <p:nvPr/>
          </p:nvSpPr>
          <p:spPr>
            <a:xfrm>
              <a:off x="9136080" y="8781120"/>
              <a:ext cx="211320" cy="20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4" name="AutoShape 107"/>
            <p:cNvSpPr/>
            <p:nvPr/>
          </p:nvSpPr>
          <p:spPr>
            <a:xfrm>
              <a:off x="8400960" y="8825400"/>
              <a:ext cx="416160" cy="31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5" name="AutoShape 108"/>
            <p:cNvSpPr/>
            <p:nvPr/>
          </p:nvSpPr>
          <p:spPr>
            <a:xfrm>
              <a:off x="8696520" y="8843040"/>
              <a:ext cx="27432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6" name="AutoShape 109"/>
            <p:cNvSpPr/>
            <p:nvPr/>
          </p:nvSpPr>
          <p:spPr>
            <a:xfrm>
              <a:off x="9256680" y="8858880"/>
              <a:ext cx="2880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7" name="AutoShape 110"/>
            <p:cNvSpPr/>
            <p:nvPr/>
          </p:nvSpPr>
          <p:spPr>
            <a:xfrm>
              <a:off x="8190000" y="8900280"/>
              <a:ext cx="3636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8" name="Line 111"/>
            <p:cNvSpPr/>
            <p:nvPr/>
          </p:nvSpPr>
          <p:spPr>
            <a:xfrm>
              <a:off x="8231400" y="8908200"/>
              <a:ext cx="79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9" name="AutoShape 112"/>
            <p:cNvSpPr/>
            <p:nvPr/>
          </p:nvSpPr>
          <p:spPr>
            <a:xfrm>
              <a:off x="9042480" y="8922240"/>
              <a:ext cx="123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0" name="AutoShape 113"/>
            <p:cNvSpPr/>
            <p:nvPr/>
          </p:nvSpPr>
          <p:spPr>
            <a:xfrm>
              <a:off x="8440920" y="8963640"/>
              <a:ext cx="1188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1" name="AutoShape 114"/>
            <p:cNvSpPr/>
            <p:nvPr/>
          </p:nvSpPr>
          <p:spPr>
            <a:xfrm>
              <a:off x="9094680" y="8974800"/>
              <a:ext cx="376560" cy="50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2" name="AutoShape 115"/>
            <p:cNvSpPr/>
            <p:nvPr/>
          </p:nvSpPr>
          <p:spPr>
            <a:xfrm>
              <a:off x="8380440" y="8984160"/>
              <a:ext cx="695520" cy="48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3" name="AutoShape 116"/>
            <p:cNvSpPr/>
            <p:nvPr/>
          </p:nvSpPr>
          <p:spPr>
            <a:xfrm>
              <a:off x="8935920" y="9057600"/>
              <a:ext cx="27324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4" name="AutoShape 117"/>
            <p:cNvSpPr/>
            <p:nvPr/>
          </p:nvSpPr>
          <p:spPr>
            <a:xfrm>
              <a:off x="8190000" y="9072000"/>
              <a:ext cx="3312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5" name="Line 118"/>
            <p:cNvSpPr/>
            <p:nvPr/>
          </p:nvSpPr>
          <p:spPr>
            <a:xfrm>
              <a:off x="8231400" y="9079920"/>
              <a:ext cx="792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6" name="AutoShape 119"/>
            <p:cNvSpPr/>
            <p:nvPr/>
          </p:nvSpPr>
          <p:spPr>
            <a:xfrm>
              <a:off x="8863200" y="9154440"/>
              <a:ext cx="42228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7" name="AutoShape 120"/>
            <p:cNvSpPr/>
            <p:nvPr/>
          </p:nvSpPr>
          <p:spPr>
            <a:xfrm>
              <a:off x="9232920" y="9221040"/>
              <a:ext cx="5724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8" name="AutoShape 121"/>
            <p:cNvSpPr/>
            <p:nvPr/>
          </p:nvSpPr>
          <p:spPr>
            <a:xfrm>
              <a:off x="8190000" y="9240120"/>
              <a:ext cx="3492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9" name="Line 122"/>
            <p:cNvSpPr/>
            <p:nvPr/>
          </p:nvSpPr>
          <p:spPr>
            <a:xfrm>
              <a:off x="8229600" y="9246600"/>
              <a:ext cx="97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0" name="AutoShape 123"/>
            <p:cNvSpPr/>
            <p:nvPr/>
          </p:nvSpPr>
          <p:spPr>
            <a:xfrm>
              <a:off x="9104400" y="9289440"/>
              <a:ext cx="1443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1" name="AutoShape 124"/>
            <p:cNvSpPr/>
            <p:nvPr/>
          </p:nvSpPr>
          <p:spPr>
            <a:xfrm>
              <a:off x="8454960" y="9300600"/>
              <a:ext cx="13680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2" name="AutoShape 125"/>
            <p:cNvSpPr/>
            <p:nvPr/>
          </p:nvSpPr>
          <p:spPr>
            <a:xfrm>
              <a:off x="8423280" y="9322920"/>
              <a:ext cx="2052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3" name="AutoShape 126"/>
            <p:cNvSpPr/>
            <p:nvPr/>
          </p:nvSpPr>
          <p:spPr>
            <a:xfrm>
              <a:off x="9356760" y="9384840"/>
              <a:ext cx="6516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4" name="AutoShape 127"/>
            <p:cNvSpPr/>
            <p:nvPr/>
          </p:nvSpPr>
          <p:spPr>
            <a:xfrm>
              <a:off x="8186760" y="9418320"/>
              <a:ext cx="3636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5" name="Line 128"/>
            <p:cNvSpPr/>
            <p:nvPr/>
          </p:nvSpPr>
          <p:spPr>
            <a:xfrm>
              <a:off x="8226360" y="9424800"/>
              <a:ext cx="129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66" name="Rectangle 129"/>
          <p:cNvSpPr/>
          <p:nvPr/>
        </p:nvSpPr>
        <p:spPr>
          <a:xfrm>
            <a:off x="123840" y="8763120"/>
            <a:ext cx="77090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Problem tritt auf durch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xistenzquantoren (und minCardinalit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7" name="Rectangle 130"/>
          <p:cNvSpPr/>
          <p:nvPr/>
        </p:nvSpPr>
        <p:spPr>
          <a:xfrm>
            <a:off x="9879840" y="8244000"/>
            <a:ext cx="69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42CC-3FE1-45F5-9BF3-FDF90C49537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chreibungslogik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977760" y="2387520"/>
            <a:ext cx="1104912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l.: description logics (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ragmente von FO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eist entscheidba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vergleichsweise ausdrucksstark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wickelt aus semantischen Netzwer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e Verwandtschaft mit Modallogi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3C Standard OWL DL basiert auf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besprechen zunäch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Basis für komplexere 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0E40-F4F9-4C18-8D5A-F0EAFC7E598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358640" y="1841400"/>
            <a:ext cx="11048760" cy="3151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haben folgendes konstruiert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1" name="Oval 3"/>
          <p:cNvSpPr/>
          <p:nvPr/>
        </p:nvSpPr>
        <p:spPr>
          <a:xfrm>
            <a:off x="281448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Rectangle 4"/>
          <p:cNvSpPr/>
          <p:nvPr/>
        </p:nvSpPr>
        <p:spPr>
          <a:xfrm>
            <a:off x="14781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Oval 5"/>
          <p:cNvSpPr/>
          <p:nvPr/>
        </p:nvSpPr>
        <p:spPr>
          <a:xfrm>
            <a:off x="537516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Rectangle 6"/>
          <p:cNvSpPr/>
          <p:nvPr/>
        </p:nvSpPr>
        <p:spPr>
          <a:xfrm>
            <a:off x="41745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Oval 7"/>
          <p:cNvSpPr/>
          <p:nvPr/>
        </p:nvSpPr>
        <p:spPr>
          <a:xfrm>
            <a:off x="793584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Rectangle 8"/>
          <p:cNvSpPr/>
          <p:nvPr/>
        </p:nvSpPr>
        <p:spPr>
          <a:xfrm>
            <a:off x="683928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Rectangle 9"/>
          <p:cNvSpPr/>
          <p:nvPr/>
        </p:nvSpPr>
        <p:spPr>
          <a:xfrm>
            <a:off x="1414440" y="4259160"/>
            <a:ext cx="12077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s wäre aber auch denkbar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Oval 10"/>
          <p:cNvSpPr/>
          <p:nvPr/>
        </p:nvSpPr>
        <p:spPr>
          <a:xfrm>
            <a:off x="4248000" y="6006960"/>
            <a:ext cx="2066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9" name="Rectangle 11"/>
          <p:cNvSpPr/>
          <p:nvPr/>
        </p:nvSpPr>
        <p:spPr>
          <a:xfrm>
            <a:off x="29124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0" name="Oval 12"/>
          <p:cNvSpPr/>
          <p:nvPr/>
        </p:nvSpPr>
        <p:spPr>
          <a:xfrm>
            <a:off x="6807240" y="6006960"/>
            <a:ext cx="2048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Rectangle 13"/>
          <p:cNvSpPr/>
          <p:nvPr/>
        </p:nvSpPr>
        <p:spPr>
          <a:xfrm>
            <a:off x="56088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82" name="Group 14"/>
          <p:cNvGrpSpPr/>
          <p:nvPr/>
        </p:nvGrpSpPr>
        <p:grpSpPr>
          <a:xfrm>
            <a:off x="3019320" y="3749760"/>
            <a:ext cx="2355480" cy="335520"/>
            <a:chOff x="3019320" y="3749760"/>
            <a:chExt cx="2355480" cy="335520"/>
          </a:xfrm>
        </p:grpSpPr>
        <p:sp>
          <p:nvSpPr>
            <p:cNvPr id="783" name="Line 15"/>
            <p:cNvSpPr/>
            <p:nvPr/>
          </p:nvSpPr>
          <p:spPr>
            <a:xfrm>
              <a:off x="3019320" y="3749760"/>
              <a:ext cx="235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4" name="Rectangle 16"/>
            <p:cNvSpPr/>
            <p:nvPr/>
          </p:nvSpPr>
          <p:spPr>
            <a:xfrm>
              <a:off x="3420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5" name="Group 17"/>
          <p:cNvGrpSpPr/>
          <p:nvPr/>
        </p:nvGrpSpPr>
        <p:grpSpPr>
          <a:xfrm>
            <a:off x="5575320" y="3749760"/>
            <a:ext cx="2354400" cy="335520"/>
            <a:chOff x="5575320" y="3749760"/>
            <a:chExt cx="2354400" cy="335520"/>
          </a:xfrm>
        </p:grpSpPr>
        <p:sp>
          <p:nvSpPr>
            <p:cNvPr id="786" name="Line 18"/>
            <p:cNvSpPr/>
            <p:nvPr/>
          </p:nvSpPr>
          <p:spPr>
            <a:xfrm>
              <a:off x="557532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7" name="Rectangle 19"/>
            <p:cNvSpPr/>
            <p:nvPr/>
          </p:nvSpPr>
          <p:spPr>
            <a:xfrm>
              <a:off x="59814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8" name="Group 20"/>
          <p:cNvGrpSpPr/>
          <p:nvPr/>
        </p:nvGrpSpPr>
        <p:grpSpPr>
          <a:xfrm>
            <a:off x="8140680" y="3749760"/>
            <a:ext cx="2354400" cy="335520"/>
            <a:chOff x="8140680" y="3749760"/>
            <a:chExt cx="2354400" cy="335520"/>
          </a:xfrm>
        </p:grpSpPr>
        <p:sp>
          <p:nvSpPr>
            <p:cNvPr id="789" name="Line 21"/>
            <p:cNvSpPr/>
            <p:nvPr/>
          </p:nvSpPr>
          <p:spPr>
            <a:xfrm>
              <a:off x="814068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0" name="Rectangle 22"/>
            <p:cNvSpPr/>
            <p:nvPr/>
          </p:nvSpPr>
          <p:spPr>
            <a:xfrm>
              <a:off x="8541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1" name="Group 23"/>
          <p:cNvGrpSpPr/>
          <p:nvPr/>
        </p:nvGrpSpPr>
        <p:grpSpPr>
          <a:xfrm>
            <a:off x="4454640" y="6108840"/>
            <a:ext cx="2354040" cy="335520"/>
            <a:chOff x="4454640" y="6108840"/>
            <a:chExt cx="2354040" cy="335520"/>
          </a:xfrm>
        </p:grpSpPr>
        <p:sp>
          <p:nvSpPr>
            <p:cNvPr id="792" name="Line 24"/>
            <p:cNvSpPr/>
            <p:nvPr/>
          </p:nvSpPr>
          <p:spPr>
            <a:xfrm>
              <a:off x="4454640" y="6108840"/>
              <a:ext cx="235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3" name="Rectangle 25"/>
            <p:cNvSpPr/>
            <p:nvPr/>
          </p:nvSpPr>
          <p:spPr>
            <a:xfrm>
              <a:off x="4854240" y="610884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4" name="Group 26"/>
          <p:cNvGrpSpPr/>
          <p:nvPr/>
        </p:nvGrpSpPr>
        <p:grpSpPr>
          <a:xfrm>
            <a:off x="6180120" y="6108840"/>
            <a:ext cx="1565280" cy="1457640"/>
            <a:chOff x="6180120" y="6108840"/>
            <a:chExt cx="1565280" cy="1457640"/>
          </a:xfrm>
        </p:grpSpPr>
        <p:sp>
          <p:nvSpPr>
            <p:cNvPr id="795" name="AutoShape 27"/>
            <p:cNvSpPr/>
            <p:nvPr/>
          </p:nvSpPr>
          <p:spPr>
            <a:xfrm>
              <a:off x="6180120" y="6108840"/>
              <a:ext cx="1565280" cy="1033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6" name="Rectangle 28"/>
            <p:cNvSpPr/>
            <p:nvPr/>
          </p:nvSpPr>
          <p:spPr>
            <a:xfrm>
              <a:off x="6288480" y="72309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7" name="Group 29"/>
          <p:cNvGrpSpPr/>
          <p:nvPr/>
        </p:nvGrpSpPr>
        <p:grpSpPr>
          <a:xfrm>
            <a:off x="2916360" y="3851280"/>
            <a:ext cx="5120640" cy="2151000"/>
            <a:chOff x="2916360" y="3851280"/>
            <a:chExt cx="5120640" cy="2151000"/>
          </a:xfrm>
        </p:grpSpPr>
        <p:sp>
          <p:nvSpPr>
            <p:cNvPr id="798" name="Line 30"/>
            <p:cNvSpPr/>
            <p:nvPr/>
          </p:nvSpPr>
          <p:spPr>
            <a:xfrm>
              <a:off x="2916360" y="3851280"/>
              <a:ext cx="1424520" cy="215100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9" name="Line 31"/>
            <p:cNvSpPr/>
            <p:nvPr/>
          </p:nvSpPr>
          <p:spPr>
            <a:xfrm>
              <a:off x="5475600" y="3851280"/>
              <a:ext cx="143712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0" name="Line 32"/>
            <p:cNvSpPr/>
            <p:nvPr/>
          </p:nvSpPr>
          <p:spPr>
            <a:xfrm flipH="1">
              <a:off x="6903720" y="3851280"/>
              <a:ext cx="113328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01" name="Rectangle 33"/>
          <p:cNvSpPr/>
          <p:nvPr/>
        </p:nvSpPr>
        <p:spPr>
          <a:xfrm>
            <a:off x="991080" y="8155080"/>
            <a:ext cx="10925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h. Wiederverwendung alter Knote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muss natürlich formal nachgewiesen werden, dass das ausreicht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Rectangle 34"/>
          <p:cNvSpPr/>
          <p:nvPr/>
        </p:nvSpPr>
        <p:spPr>
          <a:xfrm>
            <a:off x="8460000" y="6404040"/>
            <a:ext cx="173448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locking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1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1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1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2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2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1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1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1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110C-F7D8-4D60-80EB-44CEA0C35EB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mit Blocki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805" name="Group 2"/>
          <p:cNvGrpSpPr/>
          <p:nvPr/>
        </p:nvGrpSpPr>
        <p:grpSpPr>
          <a:xfrm>
            <a:off x="2759040" y="3027240"/>
            <a:ext cx="5638680" cy="512640"/>
            <a:chOff x="2759040" y="3027240"/>
            <a:chExt cx="5638680" cy="512640"/>
          </a:xfrm>
        </p:grpSpPr>
        <p:sp>
          <p:nvSpPr>
            <p:cNvPr id="806" name="Rectangle 3"/>
            <p:cNvSpPr/>
            <p:nvPr/>
          </p:nvSpPr>
          <p:spPr>
            <a:xfrm>
              <a:off x="2760480" y="302724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7" name="Rectangle 4"/>
            <p:cNvSpPr/>
            <p:nvPr/>
          </p:nvSpPr>
          <p:spPr>
            <a:xfrm>
              <a:off x="2759040" y="302724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08" name="Group 5"/>
          <p:cNvGrpSpPr/>
          <p:nvPr/>
        </p:nvGrpSpPr>
        <p:grpSpPr>
          <a:xfrm>
            <a:off x="2760840" y="3540240"/>
            <a:ext cx="10351080" cy="3480480"/>
            <a:chOff x="2760840" y="3540240"/>
            <a:chExt cx="10351080" cy="3480480"/>
          </a:xfrm>
        </p:grpSpPr>
        <p:grpSp>
          <p:nvGrpSpPr>
            <p:cNvPr id="809" name="Group 6"/>
            <p:cNvGrpSpPr/>
            <p:nvPr/>
          </p:nvGrpSpPr>
          <p:grpSpPr>
            <a:xfrm>
              <a:off x="5319360" y="4563720"/>
              <a:ext cx="5333760" cy="927000"/>
              <a:chOff x="5319360" y="4563720"/>
              <a:chExt cx="5333760" cy="927000"/>
            </a:xfrm>
          </p:grpSpPr>
          <p:sp>
            <p:nvSpPr>
              <p:cNvPr id="810" name="Rectangle 7"/>
              <p:cNvSpPr/>
              <p:nvPr/>
            </p:nvSpPr>
            <p:spPr>
              <a:xfrm>
                <a:off x="5319360" y="4563720"/>
                <a:ext cx="5325840" cy="927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1" name="Rectangle 8"/>
              <p:cNvSpPr/>
              <p:nvPr/>
            </p:nvSpPr>
            <p:spPr>
              <a:xfrm>
                <a:off x="5319360" y="4563720"/>
                <a:ext cx="533376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(Bill,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2" name="Group 9"/>
            <p:cNvGrpSpPr/>
            <p:nvPr/>
          </p:nvGrpSpPr>
          <p:grpSpPr>
            <a:xfrm>
              <a:off x="10645200" y="4659120"/>
              <a:ext cx="926640" cy="304560"/>
              <a:chOff x="10645200" y="4659120"/>
              <a:chExt cx="926640" cy="304560"/>
            </a:xfrm>
          </p:grpSpPr>
          <p:sp>
            <p:nvSpPr>
              <p:cNvPr id="813" name="Line 10"/>
              <p:cNvSpPr/>
              <p:nvPr/>
            </p:nvSpPr>
            <p:spPr>
              <a:xfrm flipH="1">
                <a:off x="10645200" y="4866840"/>
                <a:ext cx="5094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4" name="Rectangle 11"/>
              <p:cNvSpPr/>
              <p:nvPr/>
            </p:nvSpPr>
            <p:spPr>
              <a:xfrm>
                <a:off x="11153160" y="4659120"/>
                <a:ext cx="418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5" name="Group 12"/>
            <p:cNvGrpSpPr/>
            <p:nvPr/>
          </p:nvGrpSpPr>
          <p:grpSpPr>
            <a:xfrm>
              <a:off x="2760840" y="3540240"/>
              <a:ext cx="5638320" cy="510840"/>
              <a:chOff x="2760840" y="3540240"/>
              <a:chExt cx="5638320" cy="510840"/>
            </a:xfrm>
          </p:grpSpPr>
          <p:sp>
            <p:nvSpPr>
              <p:cNvPr id="816" name="Rectangle 13"/>
              <p:cNvSpPr/>
              <p:nvPr/>
            </p:nvSpPr>
            <p:spPr>
              <a:xfrm>
                <a:off x="2760840" y="3540240"/>
                <a:ext cx="563364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7" name="Rectangle 14"/>
              <p:cNvSpPr/>
              <p:nvPr/>
            </p:nvSpPr>
            <p:spPr>
              <a:xfrm>
                <a:off x="2760840" y="3540240"/>
                <a:ext cx="563832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8" name="Group 15"/>
            <p:cNvGrpSpPr/>
            <p:nvPr/>
          </p:nvGrpSpPr>
          <p:grpSpPr>
            <a:xfrm>
              <a:off x="8394120" y="3540240"/>
              <a:ext cx="926640" cy="329760"/>
              <a:chOff x="8394120" y="3540240"/>
              <a:chExt cx="926640" cy="329760"/>
            </a:xfrm>
          </p:grpSpPr>
          <p:sp>
            <p:nvSpPr>
              <p:cNvPr id="819" name="Line 16"/>
              <p:cNvSpPr/>
              <p:nvPr/>
            </p:nvSpPr>
            <p:spPr>
              <a:xfrm flipH="1">
                <a:off x="8394120" y="37429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0" name="Rectangle 17"/>
              <p:cNvSpPr/>
              <p:nvPr/>
            </p:nvSpPr>
            <p:spPr>
              <a:xfrm>
                <a:off x="8902080" y="35402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1" name="Group 18"/>
            <p:cNvGrpSpPr/>
            <p:nvPr/>
          </p:nvGrpSpPr>
          <p:grpSpPr>
            <a:xfrm>
              <a:off x="2760840" y="4049640"/>
              <a:ext cx="2145960" cy="511920"/>
              <a:chOff x="2760840" y="4049640"/>
              <a:chExt cx="2145960" cy="511920"/>
            </a:xfrm>
          </p:grpSpPr>
          <p:sp>
            <p:nvSpPr>
              <p:cNvPr id="822" name="Rectangle 19"/>
              <p:cNvSpPr/>
              <p:nvPr/>
            </p:nvSpPr>
            <p:spPr>
              <a:xfrm>
                <a:off x="2760840" y="4049640"/>
                <a:ext cx="21459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3" name="Rectangle 20"/>
              <p:cNvSpPr/>
              <p:nvPr/>
            </p:nvSpPr>
            <p:spPr>
              <a:xfrm>
                <a:off x="2760840" y="4049640"/>
                <a:ext cx="21459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2ddff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4" name="Group 21"/>
            <p:cNvGrpSpPr/>
            <p:nvPr/>
          </p:nvGrpSpPr>
          <p:grpSpPr>
            <a:xfrm>
              <a:off x="5321160" y="4049640"/>
              <a:ext cx="5333760" cy="511920"/>
              <a:chOff x="5321160" y="4049640"/>
              <a:chExt cx="5333760" cy="511920"/>
            </a:xfrm>
          </p:grpSpPr>
          <p:sp>
            <p:nvSpPr>
              <p:cNvPr id="825" name="Rectangle 22"/>
              <p:cNvSpPr/>
              <p:nvPr/>
            </p:nvSpPr>
            <p:spPr>
              <a:xfrm>
                <a:off x="5321160" y="404964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6" name="Rectangle 23"/>
              <p:cNvSpPr/>
              <p:nvPr/>
            </p:nvSpPr>
            <p:spPr>
              <a:xfrm>
                <a:off x="5321160" y="4049640"/>
                <a:ext cx="53337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7" name="Group 24"/>
            <p:cNvGrpSpPr/>
            <p:nvPr/>
          </p:nvGrpSpPr>
          <p:grpSpPr>
            <a:xfrm>
              <a:off x="10647000" y="4049640"/>
              <a:ext cx="926640" cy="329760"/>
              <a:chOff x="10647000" y="4049640"/>
              <a:chExt cx="926640" cy="329760"/>
            </a:xfrm>
          </p:grpSpPr>
          <p:sp>
            <p:nvSpPr>
              <p:cNvPr id="828" name="Line 25"/>
              <p:cNvSpPr/>
              <p:nvPr/>
            </p:nvSpPr>
            <p:spPr>
              <a:xfrm flipH="1">
                <a:off x="10647000" y="4252320"/>
                <a:ext cx="509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9" name="Rectangle 26"/>
              <p:cNvSpPr/>
              <p:nvPr/>
            </p:nvSpPr>
            <p:spPr>
              <a:xfrm>
                <a:off x="11154960" y="4049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30" name="Group 27"/>
            <p:cNvGrpSpPr/>
            <p:nvPr/>
          </p:nvGrpSpPr>
          <p:grpSpPr>
            <a:xfrm>
              <a:off x="3375000" y="4563720"/>
              <a:ext cx="537120" cy="496440"/>
              <a:chOff x="3375000" y="4563720"/>
              <a:chExt cx="537120" cy="496440"/>
            </a:xfrm>
          </p:grpSpPr>
          <p:sp>
            <p:nvSpPr>
              <p:cNvPr id="831" name="AutoShape 28"/>
              <p:cNvSpPr/>
              <p:nvPr/>
            </p:nvSpPr>
            <p:spPr>
              <a:xfrm>
                <a:off x="3375000" y="4563720"/>
                <a:ext cx="53712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2" name="AutoShape 29"/>
              <p:cNvSpPr/>
              <p:nvPr/>
            </p:nvSpPr>
            <p:spPr>
              <a:xfrm>
                <a:off x="3387600" y="4576320"/>
                <a:ext cx="51048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3" name="AutoShape 30"/>
              <p:cNvSpPr/>
              <p:nvPr/>
            </p:nvSpPr>
            <p:spPr>
              <a:xfrm>
                <a:off x="3402000" y="4590720"/>
                <a:ext cx="48348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440160" y="4687560"/>
                <a:ext cx="936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540240" y="4692600"/>
                <a:ext cx="10620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6" name="AutoShape 33"/>
              <p:cNvSpPr/>
              <p:nvPr/>
            </p:nvSpPr>
            <p:spPr>
              <a:xfrm>
                <a:off x="3653280" y="4687560"/>
                <a:ext cx="918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7" name="Line 34"/>
              <p:cNvSpPr/>
              <p:nvPr/>
            </p:nvSpPr>
            <p:spPr>
              <a:xfrm>
                <a:off x="3692880" y="4734000"/>
                <a:ext cx="1440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8" name="AutoShape 35"/>
              <p:cNvSpPr/>
              <p:nvPr/>
            </p:nvSpPr>
            <p:spPr>
              <a:xfrm>
                <a:off x="3756600" y="4692600"/>
                <a:ext cx="96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9" name="Line 36"/>
              <p:cNvSpPr/>
              <p:nvPr/>
            </p:nvSpPr>
            <p:spPr>
              <a:xfrm>
                <a:off x="3799440" y="4735440"/>
                <a:ext cx="1440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0" name="Group 37"/>
            <p:cNvGrpSpPr/>
            <p:nvPr/>
          </p:nvGrpSpPr>
          <p:grpSpPr>
            <a:xfrm>
              <a:off x="4190760" y="5997240"/>
              <a:ext cx="1955520" cy="526320"/>
              <a:chOff x="4190760" y="5997240"/>
              <a:chExt cx="1955520" cy="526320"/>
            </a:xfrm>
          </p:grpSpPr>
          <p:sp>
            <p:nvSpPr>
              <p:cNvPr id="841" name="Rectangle 38"/>
              <p:cNvSpPr/>
              <p:nvPr/>
            </p:nvSpPr>
            <p:spPr>
              <a:xfrm>
                <a:off x="4193640" y="5997240"/>
                <a:ext cx="194256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2" name="Rectangle 39"/>
              <p:cNvSpPr/>
              <p:nvPr/>
            </p:nvSpPr>
            <p:spPr>
              <a:xfrm>
                <a:off x="4190760" y="5997240"/>
                <a:ext cx="19555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2ddff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e2ddff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3" name="Group 40"/>
            <p:cNvGrpSpPr/>
            <p:nvPr/>
          </p:nvGrpSpPr>
          <p:grpSpPr>
            <a:xfrm>
              <a:off x="6549840" y="5997240"/>
              <a:ext cx="5638320" cy="526320"/>
              <a:chOff x="6549840" y="5997240"/>
              <a:chExt cx="5638320" cy="526320"/>
            </a:xfrm>
          </p:grpSpPr>
          <p:sp>
            <p:nvSpPr>
              <p:cNvPr id="844" name="Rectangle 41"/>
              <p:cNvSpPr/>
              <p:nvPr/>
            </p:nvSpPr>
            <p:spPr>
              <a:xfrm>
                <a:off x="6549840" y="5997240"/>
                <a:ext cx="563832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5" name="Rectangle 42"/>
              <p:cNvSpPr/>
              <p:nvPr/>
            </p:nvSpPr>
            <p:spPr>
              <a:xfrm>
                <a:off x="6549840" y="5997240"/>
                <a:ext cx="56383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6" name="Group 43"/>
            <p:cNvGrpSpPr/>
            <p:nvPr/>
          </p:nvGrpSpPr>
          <p:grpSpPr>
            <a:xfrm>
              <a:off x="12185280" y="6011640"/>
              <a:ext cx="926640" cy="329760"/>
              <a:chOff x="12185280" y="6011640"/>
              <a:chExt cx="926640" cy="329760"/>
            </a:xfrm>
          </p:grpSpPr>
          <p:sp>
            <p:nvSpPr>
              <p:cNvPr id="847" name="Line 44"/>
              <p:cNvSpPr/>
              <p:nvPr/>
            </p:nvSpPr>
            <p:spPr>
              <a:xfrm flipH="1">
                <a:off x="12185280" y="62143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8" name="Rectangle 45"/>
              <p:cNvSpPr/>
              <p:nvPr/>
            </p:nvSpPr>
            <p:spPr>
              <a:xfrm>
                <a:off x="12693240" y="6011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9" name="Group 46"/>
            <p:cNvGrpSpPr/>
            <p:nvPr/>
          </p:nvGrpSpPr>
          <p:grpSpPr>
            <a:xfrm>
              <a:off x="4603680" y="6524280"/>
              <a:ext cx="536040" cy="496440"/>
              <a:chOff x="4603680" y="6524280"/>
              <a:chExt cx="536040" cy="496440"/>
            </a:xfrm>
          </p:grpSpPr>
          <p:sp>
            <p:nvSpPr>
              <p:cNvPr id="850" name="AutoShape 47"/>
              <p:cNvSpPr/>
              <p:nvPr/>
            </p:nvSpPr>
            <p:spPr>
              <a:xfrm>
                <a:off x="4603680" y="6524280"/>
                <a:ext cx="53604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1" name="AutoShape 48"/>
              <p:cNvSpPr/>
              <p:nvPr/>
            </p:nvSpPr>
            <p:spPr>
              <a:xfrm>
                <a:off x="4615920" y="6536880"/>
                <a:ext cx="50940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2" name="AutoShape 49"/>
              <p:cNvSpPr/>
              <p:nvPr/>
            </p:nvSpPr>
            <p:spPr>
              <a:xfrm>
                <a:off x="4630320" y="6551280"/>
                <a:ext cx="48240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3" name="AutoShape 50"/>
              <p:cNvSpPr/>
              <p:nvPr/>
            </p:nvSpPr>
            <p:spPr>
              <a:xfrm>
                <a:off x="4668480" y="6648120"/>
                <a:ext cx="932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4" name="AutoShape 51"/>
              <p:cNvSpPr/>
              <p:nvPr/>
            </p:nvSpPr>
            <p:spPr>
              <a:xfrm>
                <a:off x="4768560" y="6653160"/>
                <a:ext cx="105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5" name="AutoShape 52"/>
              <p:cNvSpPr/>
              <p:nvPr/>
            </p:nvSpPr>
            <p:spPr>
              <a:xfrm>
                <a:off x="4881240" y="6648120"/>
                <a:ext cx="914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6" name="Line 53"/>
              <p:cNvSpPr/>
              <p:nvPr/>
            </p:nvSpPr>
            <p:spPr>
              <a:xfrm>
                <a:off x="4920840" y="6694560"/>
                <a:ext cx="1404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7" name="AutoShape 54"/>
              <p:cNvSpPr/>
              <p:nvPr/>
            </p:nvSpPr>
            <p:spPr>
              <a:xfrm>
                <a:off x="4984200" y="6653160"/>
                <a:ext cx="9648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8" name="Line 55"/>
              <p:cNvSpPr/>
              <p:nvPr/>
            </p:nvSpPr>
            <p:spPr>
              <a:xfrm>
                <a:off x="5027040" y="6696000"/>
                <a:ext cx="1404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9" name="Group 56"/>
            <p:cNvGrpSpPr/>
            <p:nvPr/>
          </p:nvGrpSpPr>
          <p:grpSpPr>
            <a:xfrm>
              <a:off x="5321160" y="5484600"/>
              <a:ext cx="5333760" cy="511920"/>
              <a:chOff x="5321160" y="5484600"/>
              <a:chExt cx="5333760" cy="511920"/>
            </a:xfrm>
          </p:grpSpPr>
          <p:sp>
            <p:nvSpPr>
              <p:cNvPr id="860" name="Rectangle 57"/>
              <p:cNvSpPr/>
              <p:nvPr/>
            </p:nvSpPr>
            <p:spPr>
              <a:xfrm>
                <a:off x="5321160" y="548460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1" name="Rectangle 58"/>
              <p:cNvSpPr/>
              <p:nvPr/>
            </p:nvSpPr>
            <p:spPr>
              <a:xfrm>
                <a:off x="5321160" y="5484600"/>
                <a:ext cx="533376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∪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62" name="Group 59"/>
            <p:cNvGrpSpPr/>
            <p:nvPr/>
          </p:nvGrpSpPr>
          <p:grpSpPr>
            <a:xfrm>
              <a:off x="10647000" y="5484600"/>
              <a:ext cx="926640" cy="329760"/>
              <a:chOff x="10647000" y="5484600"/>
              <a:chExt cx="926640" cy="329760"/>
            </a:xfrm>
          </p:grpSpPr>
          <p:sp>
            <p:nvSpPr>
              <p:cNvPr id="863" name="Line 60"/>
              <p:cNvSpPr/>
              <p:nvPr/>
            </p:nvSpPr>
            <p:spPr>
              <a:xfrm flipH="1">
                <a:off x="10647000" y="568728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4" name="Rectangle 61"/>
              <p:cNvSpPr/>
              <p:nvPr/>
            </p:nvSpPr>
            <p:spPr>
              <a:xfrm>
                <a:off x="11154960" y="548460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865" name="Rectangle 62"/>
          <p:cNvSpPr/>
          <p:nvPr/>
        </p:nvSpPr>
        <p:spPr>
          <a:xfrm>
            <a:off x="6550200" y="6515280"/>
            <a:ext cx="53337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2016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⊆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, so Bill blocks 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66" name="Group 63"/>
          <p:cNvGrpSpPr/>
          <p:nvPr/>
        </p:nvGrpSpPr>
        <p:grpSpPr>
          <a:xfrm>
            <a:off x="11773080" y="8866080"/>
            <a:ext cx="536400" cy="495360"/>
            <a:chOff x="11773080" y="8866080"/>
            <a:chExt cx="536400" cy="495360"/>
          </a:xfrm>
        </p:grpSpPr>
        <p:sp>
          <p:nvSpPr>
            <p:cNvPr id="867" name="AutoShape 64"/>
            <p:cNvSpPr/>
            <p:nvPr/>
          </p:nvSpPr>
          <p:spPr>
            <a:xfrm>
              <a:off x="11773080" y="8866080"/>
              <a:ext cx="536400" cy="49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8" name="AutoShape 65"/>
            <p:cNvSpPr/>
            <p:nvPr/>
          </p:nvSpPr>
          <p:spPr>
            <a:xfrm>
              <a:off x="11785680" y="8878680"/>
              <a:ext cx="509760" cy="47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9" name="AutoShape 66"/>
            <p:cNvSpPr/>
            <p:nvPr/>
          </p:nvSpPr>
          <p:spPr>
            <a:xfrm>
              <a:off x="11800080" y="8893080"/>
              <a:ext cx="482760" cy="441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0" name="AutoShape 67"/>
            <p:cNvSpPr/>
            <p:nvPr/>
          </p:nvSpPr>
          <p:spPr>
            <a:xfrm>
              <a:off x="11838240" y="8989920"/>
              <a:ext cx="936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1" name="AutoShape 68"/>
            <p:cNvSpPr/>
            <p:nvPr/>
          </p:nvSpPr>
          <p:spPr>
            <a:xfrm>
              <a:off x="11938320" y="8994600"/>
              <a:ext cx="10620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2" name="AutoShape 69"/>
            <p:cNvSpPr/>
            <p:nvPr/>
          </p:nvSpPr>
          <p:spPr>
            <a:xfrm>
              <a:off x="12051000" y="8989920"/>
              <a:ext cx="918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3" name="Line 70"/>
            <p:cNvSpPr/>
            <p:nvPr/>
          </p:nvSpPr>
          <p:spPr>
            <a:xfrm>
              <a:off x="12090600" y="9036000"/>
              <a:ext cx="14400" cy="12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4" name="AutoShape 71"/>
            <p:cNvSpPr/>
            <p:nvPr/>
          </p:nvSpPr>
          <p:spPr>
            <a:xfrm>
              <a:off x="12153960" y="8994600"/>
              <a:ext cx="9684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5" name="Line 72"/>
            <p:cNvSpPr/>
            <p:nvPr/>
          </p:nvSpPr>
          <p:spPr>
            <a:xfrm>
              <a:off x="12196800" y="903744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76" name="Group 73"/>
          <p:cNvGrpSpPr/>
          <p:nvPr/>
        </p:nvGrpSpPr>
        <p:grpSpPr>
          <a:xfrm>
            <a:off x="504360" y="7226280"/>
            <a:ext cx="5232600" cy="2486520"/>
            <a:chOff x="504360" y="7226280"/>
            <a:chExt cx="5232600" cy="2486520"/>
          </a:xfrm>
        </p:grpSpPr>
        <p:sp>
          <p:nvSpPr>
            <p:cNvPr id="877" name="Rectangle 74"/>
            <p:cNvSpPr/>
            <p:nvPr/>
          </p:nvSpPr>
          <p:spPr>
            <a:xfrm>
              <a:off x="32007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8" name="AutoShape 75"/>
            <p:cNvSpPr/>
            <p:nvPr/>
          </p:nvSpPr>
          <p:spPr>
            <a:xfrm>
              <a:off x="3772440" y="8250120"/>
              <a:ext cx="1565640" cy="10350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9" name="Rectangle 76"/>
            <p:cNvSpPr/>
            <p:nvPr/>
          </p:nvSpPr>
          <p:spPr>
            <a:xfrm>
              <a:off x="3880800" y="937728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0" name="Oval 77"/>
            <p:cNvSpPr/>
            <p:nvPr/>
          </p:nvSpPr>
          <p:spPr>
            <a:xfrm>
              <a:off x="1840320" y="8153280"/>
              <a:ext cx="20628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1" name="Rectangle 78"/>
            <p:cNvSpPr/>
            <p:nvPr/>
          </p:nvSpPr>
          <p:spPr>
            <a:xfrm>
              <a:off x="5043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2" name="Oval 79"/>
            <p:cNvSpPr/>
            <p:nvPr/>
          </p:nvSpPr>
          <p:spPr>
            <a:xfrm>
              <a:off x="4401360" y="8153280"/>
              <a:ext cx="20484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83" name="Group 80"/>
            <p:cNvGrpSpPr/>
            <p:nvPr/>
          </p:nvGrpSpPr>
          <p:grpSpPr>
            <a:xfrm>
              <a:off x="2046600" y="8250120"/>
              <a:ext cx="2354400" cy="335520"/>
              <a:chOff x="2046600" y="8250120"/>
              <a:chExt cx="2354400" cy="335520"/>
            </a:xfrm>
          </p:grpSpPr>
          <p:sp>
            <p:nvSpPr>
              <p:cNvPr id="884" name="Line 81"/>
              <p:cNvSpPr/>
              <p:nvPr/>
            </p:nvSpPr>
            <p:spPr>
              <a:xfrm>
                <a:off x="2046600" y="8250120"/>
                <a:ext cx="2354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85" name="Rectangle 82"/>
              <p:cNvSpPr/>
              <p:nvPr/>
            </p:nvSpPr>
            <p:spPr>
              <a:xfrm>
                <a:off x="2446920" y="8250120"/>
                <a:ext cx="1389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asParent</a:t>
                </a:r>
                <a:endParaRPr b="0" lang="en-US" sz="2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86" name="Rectangle 83"/>
            <p:cNvSpPr/>
            <p:nvPr/>
          </p:nvSpPr>
          <p:spPr>
            <a:xfrm>
              <a:off x="1684800" y="8351640"/>
              <a:ext cx="489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ll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7" name="Rectangle 84"/>
            <p:cNvSpPr/>
            <p:nvPr/>
          </p:nvSpPr>
          <p:spPr>
            <a:xfrm>
              <a:off x="5063040" y="8045280"/>
              <a:ext cx="3459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200" spc="-1" strike="noStrike" baseline="-2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88" name="Rectangle 85"/>
          <p:cNvSpPr/>
          <p:nvPr/>
        </p:nvSpPr>
        <p:spPr>
          <a:xfrm>
            <a:off x="5504040" y="1900080"/>
            <a:ext cx="117982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B1DF-74AE-4EC3-83E9-5270BE695CD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Defini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Auswahl v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)(a) im Tableauzweig A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lockier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falls es ein Individuum b gibt, so dass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C | C(a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{C | C(b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wei Möglichkeiten der Terminierung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Abschluss des Tableaus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Keine ungeblockte Auswahl führt zu Erweiterung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18EA-1D92-43CE-96FC-1DC76545A6D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für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Grundidee ist dieselb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mpliziertere Blockingregeln müssen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chlechte Unterstützung von Instanzgenerieru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mit Blocking ist 2NExptime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schlechter als nötig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53CD-90E5-4867-B48F-71ADD04B871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-Beweis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77760" y="2214360"/>
            <a:ext cx="1104912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cs.man.ac.uk/~horrocks/FaCT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++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owl.man.ac.uk/factplusplus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elle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mindswap.org/2003/pellet/index.shtm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N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acerPro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www.sts.tu-harburg.de/~r.f.moeller/racer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E120-EEA4-4E4B-BC7C-E294B465A2D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B170-51E5-479B-B983-8649914475D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: Grund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71640" y="2109960"/>
            <a:ext cx="109584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ox-Reasoning (Instanzgenerierung) ist wichtiger für die Praxis als TBox-Reasoni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olutionsverfahren ist hervorragend für Instanzgenerierung geeignet (siehe Prolog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esolutionsbeweiser für OWL DL?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aive Versuche via FOL schlagen feh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: Transformation in FOL ergibt Existenzquantoren, die in Funktionssymbole skolemisiert werden mü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erminierung mit Funktionssymbolen nicht erzwingba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0E44-DEAF-45D1-9860-BCBC268C113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erminier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 viele neue durch Existenzquantor erzeugte Individuen reichen für alle Konsequenzen a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eviele und welche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nächst Behandlung der TBox: Ziehen aller (benötigten) logischen Konsequenz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ugenerierung von Individuuen via Existenzquantoren dann nicht mehr nöti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xistenzquantoren (d.h. Skolemfunktionen) können dann entfernt werden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48D4-7CF2-4BEC-BD22-CA1F9B3BD9C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Architek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9" name="Rectangle 2"/>
          <p:cNvSpPr/>
          <p:nvPr/>
        </p:nvSpPr>
        <p:spPr>
          <a:xfrm>
            <a:off x="2953080" y="2828880"/>
            <a:ext cx="2500920" cy="85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L DL TBo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no nominal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0" name="Rectangle 3"/>
          <p:cNvSpPr/>
          <p:nvPr/>
        </p:nvSpPr>
        <p:spPr>
          <a:xfrm>
            <a:off x="1934640" y="4670280"/>
            <a:ext cx="3415320" cy="128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formation 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junctive Data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[ExpTime]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807840" y="3032280"/>
            <a:ext cx="11430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2" name="Rectangle 5"/>
          <p:cNvSpPr/>
          <p:nvPr/>
        </p:nvSpPr>
        <p:spPr>
          <a:xfrm>
            <a:off x="6237360" y="2828880"/>
            <a:ext cx="2487240" cy="85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WRL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only DL-saf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3" name="Rectangle 6"/>
          <p:cNvSpPr/>
          <p:nvPr/>
        </p:nvSpPr>
        <p:spPr>
          <a:xfrm>
            <a:off x="911520" y="7642080"/>
            <a:ext cx="8449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junctive Datalog Reasoning Engine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[coNP]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4" name="Rectangle 7"/>
          <p:cNvSpPr/>
          <p:nvPr/>
        </p:nvSpPr>
        <p:spPr>
          <a:xfrm>
            <a:off x="9399240" y="3032280"/>
            <a:ext cx="254052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L DL ABo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5" name="Rectangle 8"/>
          <p:cNvSpPr/>
          <p:nvPr/>
        </p:nvSpPr>
        <p:spPr>
          <a:xfrm>
            <a:off x="2651040" y="8562960"/>
            <a:ext cx="139896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6" name="Line 9"/>
          <p:cNvSpPr/>
          <p:nvPr/>
        </p:nvSpPr>
        <p:spPr>
          <a:xfrm>
            <a:off x="1585800" y="3645000"/>
            <a:ext cx="716040" cy="102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7" name="Line 10"/>
          <p:cNvSpPr/>
          <p:nvPr/>
        </p:nvSpPr>
        <p:spPr>
          <a:xfrm>
            <a:off x="4146480" y="3851280"/>
            <a:ext cx="3240" cy="81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8" name="Line 11"/>
          <p:cNvSpPr/>
          <p:nvPr/>
        </p:nvSpPr>
        <p:spPr>
          <a:xfrm>
            <a:off x="3633840" y="6108840"/>
            <a:ext cx="3240" cy="153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9" name="Line 12"/>
          <p:cNvSpPr/>
          <p:nvPr/>
        </p:nvSpPr>
        <p:spPr>
          <a:xfrm flipH="1">
            <a:off x="5681520" y="3851280"/>
            <a:ext cx="1844640" cy="3790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0" name="Line 13"/>
          <p:cNvSpPr/>
          <p:nvPr/>
        </p:nvSpPr>
        <p:spPr>
          <a:xfrm flipH="1">
            <a:off x="6296040" y="3645000"/>
            <a:ext cx="4300560" cy="399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1" name="Line 14"/>
          <p:cNvSpPr/>
          <p:nvPr/>
        </p:nvSpPr>
        <p:spPr>
          <a:xfrm>
            <a:off x="3633840" y="8256600"/>
            <a:ext cx="3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2" name="Line 15"/>
          <p:cNvSpPr/>
          <p:nvPr/>
        </p:nvSpPr>
        <p:spPr>
          <a:xfrm>
            <a:off x="1073160" y="3645000"/>
            <a:ext cx="3240" cy="3992400"/>
          </a:xfrm>
          <a:prstGeom prst="line">
            <a:avLst/>
          </a:prstGeom>
          <a:ln w="12600">
            <a:solidFill>
              <a:srgbClr val="e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3" name="Line 16"/>
          <p:cNvSpPr/>
          <p:nvPr/>
        </p:nvSpPr>
        <p:spPr>
          <a:xfrm flipV="1">
            <a:off x="1585800" y="4055760"/>
            <a:ext cx="820800" cy="307800"/>
          </a:xfrm>
          <a:prstGeom prst="line">
            <a:avLst/>
          </a:prstGeom>
          <a:ln w="1260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4" name="Line 17"/>
          <p:cNvSpPr/>
          <p:nvPr/>
        </p:nvSpPr>
        <p:spPr>
          <a:xfrm flipV="1">
            <a:off x="1686960" y="4157640"/>
            <a:ext cx="820440" cy="308160"/>
          </a:xfrm>
          <a:prstGeom prst="line">
            <a:avLst/>
          </a:prstGeom>
          <a:ln w="1260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5" name="Rectangle 18"/>
          <p:cNvSpPr/>
          <p:nvPr/>
        </p:nvSpPr>
        <p:spPr>
          <a:xfrm>
            <a:off x="29880" y="4267080"/>
            <a:ext cx="1557720" cy="12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suffices f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some quer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e.g. instan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retrieval f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named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26" name="Group 19"/>
          <p:cNvGrpSpPr/>
          <p:nvPr/>
        </p:nvGrpSpPr>
        <p:grpSpPr>
          <a:xfrm>
            <a:off x="6192720" y="6496200"/>
            <a:ext cx="5605200" cy="1493280"/>
            <a:chOff x="6192720" y="6496200"/>
            <a:chExt cx="5605200" cy="1493280"/>
          </a:xfrm>
        </p:grpSpPr>
        <p:sp>
          <p:nvSpPr>
            <p:cNvPr id="927" name="AutoShape 20"/>
            <p:cNvSpPr/>
            <p:nvPr/>
          </p:nvSpPr>
          <p:spPr>
            <a:xfrm>
              <a:off x="9702000" y="6676920"/>
              <a:ext cx="2095920" cy="1312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8" name="Rectangle 21"/>
            <p:cNvSpPr/>
            <p:nvPr/>
          </p:nvSpPr>
          <p:spPr>
            <a:xfrm>
              <a:off x="6195960" y="6514920"/>
              <a:ext cx="5019480" cy="863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9" name="Rectangle 22"/>
            <p:cNvSpPr/>
            <p:nvPr/>
          </p:nvSpPr>
          <p:spPr>
            <a:xfrm>
              <a:off x="6192720" y="6496200"/>
              <a:ext cx="501804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s standard techniques like magic sets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30" name="Group 23"/>
          <p:cNvGrpSpPr/>
          <p:nvPr/>
        </p:nvGrpSpPr>
        <p:grpSpPr>
          <a:xfrm>
            <a:off x="5673600" y="3949560"/>
            <a:ext cx="6053040" cy="2158920"/>
            <a:chOff x="5673600" y="3949560"/>
            <a:chExt cx="6053040" cy="2158920"/>
          </a:xfrm>
        </p:grpSpPr>
        <p:sp>
          <p:nvSpPr>
            <p:cNvPr id="931" name="Line 24"/>
            <p:cNvSpPr/>
            <p:nvPr/>
          </p:nvSpPr>
          <p:spPr>
            <a:xfrm>
              <a:off x="5673600" y="6108480"/>
              <a:ext cx="58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2" name="Rectangle 25"/>
            <p:cNvSpPr/>
            <p:nvPr/>
          </p:nvSpPr>
          <p:spPr>
            <a:xfrm>
              <a:off x="6195960" y="3949560"/>
              <a:ext cx="5530680" cy="2044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3" name="Rectangle 26"/>
            <p:cNvSpPr/>
            <p:nvPr/>
          </p:nvSpPr>
          <p:spPr>
            <a:xfrm>
              <a:off x="6195960" y="4120920"/>
              <a:ext cx="552600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lem: Skolemization introduces function symbols, which cause standard Datalog algorithms to loop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1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2D25-F9E5-483F-933E-D292FF93F05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nsform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936" name="Picture 2" descr=""/>
          <p:cNvPicPr/>
          <p:nvPr/>
        </p:nvPicPr>
        <p:blipFill>
          <a:blip r:embed="rId1"/>
          <a:stretch/>
        </p:blipFill>
        <p:spPr>
          <a:xfrm>
            <a:off x="254160" y="4467240"/>
            <a:ext cx="12442680" cy="11080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3"/>
          <p:cNvGrpSpPr/>
          <p:nvPr/>
        </p:nvGrpSpPr>
        <p:grpSpPr>
          <a:xfrm>
            <a:off x="1766880" y="1957320"/>
            <a:ext cx="9962640" cy="2406600"/>
            <a:chOff x="1766880" y="1957320"/>
            <a:chExt cx="9962640" cy="2406600"/>
          </a:xfrm>
        </p:grpSpPr>
        <p:sp>
          <p:nvSpPr>
            <p:cNvPr id="938" name="AutoShape 4"/>
            <p:cNvSpPr/>
            <p:nvPr/>
          </p:nvSpPr>
          <p:spPr>
            <a:xfrm>
              <a:off x="1766880" y="2171520"/>
              <a:ext cx="1039680" cy="2192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9" name="Rectangle 5"/>
            <p:cNvSpPr/>
            <p:nvPr/>
          </p:nvSpPr>
          <p:spPr>
            <a:xfrm>
              <a:off x="2914560" y="2008080"/>
              <a:ext cx="8808480" cy="41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0" name="Rectangle 6"/>
            <p:cNvSpPr/>
            <p:nvPr/>
          </p:nvSpPr>
          <p:spPr>
            <a:xfrm>
              <a:off x="2914560" y="1957320"/>
              <a:ext cx="88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rverarbeitung: Trans(R)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C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(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C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1" name="Group 7"/>
          <p:cNvGrpSpPr/>
          <p:nvPr/>
        </p:nvGrpSpPr>
        <p:grpSpPr>
          <a:xfrm>
            <a:off x="3733920" y="2909880"/>
            <a:ext cx="7994520" cy="1440000"/>
            <a:chOff x="3733920" y="2909880"/>
            <a:chExt cx="7994520" cy="1440000"/>
          </a:xfrm>
        </p:grpSpPr>
        <p:sp>
          <p:nvSpPr>
            <p:cNvPr id="942" name="AutoShape 8"/>
            <p:cNvSpPr/>
            <p:nvPr/>
          </p:nvSpPr>
          <p:spPr>
            <a:xfrm>
              <a:off x="3733920" y="3090960"/>
              <a:ext cx="304920" cy="1258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3" name="Rectangle 9"/>
            <p:cNvSpPr/>
            <p:nvPr/>
          </p:nvSpPr>
          <p:spPr>
            <a:xfrm>
              <a:off x="4146840" y="2928960"/>
              <a:ext cx="757692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4" name="Rectangle 10"/>
            <p:cNvSpPr/>
            <p:nvPr/>
          </p:nvSpPr>
          <p:spPr>
            <a:xfrm>
              <a:off x="4146840" y="2909880"/>
              <a:ext cx="7581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a FOL. Durch Skolemisierung entstehen Funktionssymbole!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5" name="Group 11"/>
          <p:cNvGrpSpPr/>
          <p:nvPr/>
        </p:nvGrpSpPr>
        <p:grpSpPr>
          <a:xfrm>
            <a:off x="243000" y="5654520"/>
            <a:ext cx="6615000" cy="1888920"/>
            <a:chOff x="243000" y="5654520"/>
            <a:chExt cx="6615000" cy="1888920"/>
          </a:xfrm>
        </p:grpSpPr>
        <p:sp>
          <p:nvSpPr>
            <p:cNvPr id="946" name="AutoShape 12"/>
            <p:cNvSpPr/>
            <p:nvPr/>
          </p:nvSpPr>
          <p:spPr>
            <a:xfrm>
              <a:off x="6710400" y="5654520"/>
              <a:ext cx="147600" cy="303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7" name="Rectangle 13"/>
            <p:cNvSpPr/>
            <p:nvPr/>
          </p:nvSpPr>
          <p:spPr>
            <a:xfrm>
              <a:off x="243000" y="5802120"/>
              <a:ext cx="6359400" cy="174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8" name="Rectangle 14"/>
            <p:cNvSpPr/>
            <p:nvPr/>
          </p:nvSpPr>
          <p:spPr>
            <a:xfrm>
              <a:off x="243000" y="6011640"/>
              <a:ext cx="636264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nzufügen mancher inferierter Klauseln. Dieser Schritt ist Exptime! Resolutionsbasiertes Verfahren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9" name="Group 15"/>
          <p:cNvGrpSpPr/>
          <p:nvPr/>
        </p:nvGrpSpPr>
        <p:grpSpPr>
          <a:xfrm>
            <a:off x="254160" y="5692680"/>
            <a:ext cx="8584560" cy="3484440"/>
            <a:chOff x="254160" y="5692680"/>
            <a:chExt cx="8584560" cy="3484440"/>
          </a:xfrm>
        </p:grpSpPr>
        <p:sp>
          <p:nvSpPr>
            <p:cNvPr id="950" name="AutoShape 16"/>
            <p:cNvSpPr/>
            <p:nvPr/>
          </p:nvSpPr>
          <p:spPr>
            <a:xfrm>
              <a:off x="8457840" y="5692680"/>
              <a:ext cx="380880" cy="2212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1" name="Rectangle 17"/>
            <p:cNvSpPr/>
            <p:nvPr/>
          </p:nvSpPr>
          <p:spPr>
            <a:xfrm>
              <a:off x="254160" y="7742880"/>
              <a:ext cx="8089560" cy="143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2" name="Rectangle 18"/>
            <p:cNvSpPr/>
            <p:nvPr/>
          </p:nvSpPr>
          <p:spPr>
            <a:xfrm>
              <a:off x="254160" y="7805160"/>
              <a:ext cx="80910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setzen von f(x) furch neues Individuum fx. (Endlicher) Graph von f wird als neue Rolle hinzugefügt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53" name="Group 19"/>
          <p:cNvGrpSpPr/>
          <p:nvPr/>
        </p:nvGrpSpPr>
        <p:grpSpPr>
          <a:xfrm>
            <a:off x="9360000" y="5676840"/>
            <a:ext cx="3438360" cy="1459080"/>
            <a:chOff x="9360000" y="5676840"/>
            <a:chExt cx="3438360" cy="1459080"/>
          </a:xfrm>
        </p:grpSpPr>
        <p:sp>
          <p:nvSpPr>
            <p:cNvPr id="954" name="AutoShape 20"/>
            <p:cNvSpPr/>
            <p:nvPr/>
          </p:nvSpPr>
          <p:spPr>
            <a:xfrm>
              <a:off x="9360000" y="5676840"/>
              <a:ext cx="104760" cy="2919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5" name="Rectangle 21"/>
            <p:cNvSpPr/>
            <p:nvPr/>
          </p:nvSpPr>
          <p:spPr>
            <a:xfrm>
              <a:off x="9574200" y="5803920"/>
              <a:ext cx="3224160" cy="133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6" name="Rectangle 22"/>
            <p:cNvSpPr/>
            <p:nvPr/>
          </p:nvSpPr>
          <p:spPr>
            <a:xfrm>
              <a:off x="9574200" y="6010200"/>
              <a:ext cx="32133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tzt funktionsfrei und  entscheidbar.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57" name="Rectangle 23"/>
          <p:cNvSpPr/>
          <p:nvPr/>
        </p:nvSpPr>
        <p:spPr>
          <a:xfrm>
            <a:off x="9470880" y="7435800"/>
            <a:ext cx="292104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s genügt di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ehandlung der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Tbox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1674-CDAD-427D-9EA8-DB45CB7988D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Aufbau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66880" y="2350800"/>
            <a:ext cx="1198080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s sind ein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Famil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ogikbasierter Formalismen zur Wissensrepräsent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zielle Sprachen v.a. charakterisiert durch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struktoren für komplexe Klassen und Rollen aus einfacheren.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nge von Axiomen um Fakten über Klassen, Rollen und Individuen auszudrück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t die kleinste DL, die aussagenlogisch abgeschlossen i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junktion, Disjunktion, Negation sind Konstruktore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eschriebe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oren schränken Rollenbereiche ein, z.B.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Rich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appy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3B43-9A0F-4361-AD73-8166D8C9C99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fo - Schritt 1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960" name="Group 2"/>
          <p:cNvGrpSpPr/>
          <p:nvPr/>
        </p:nvGrpSpPr>
        <p:grpSpPr>
          <a:xfrm>
            <a:off x="254160" y="4572000"/>
            <a:ext cx="6146640" cy="2457360"/>
            <a:chOff x="254160" y="4572000"/>
            <a:chExt cx="6146640" cy="2457360"/>
          </a:xfrm>
        </p:grpSpPr>
        <p:sp>
          <p:nvSpPr>
            <p:cNvPr id="961" name="Rectangle 3"/>
            <p:cNvSpPr/>
            <p:nvPr/>
          </p:nvSpPr>
          <p:spPr>
            <a:xfrm>
              <a:off x="254160" y="4572000"/>
              <a:ext cx="6145200" cy="2457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2" name="Rectangle 4"/>
            <p:cNvSpPr/>
            <p:nvPr/>
          </p:nvSpPr>
          <p:spPr>
            <a:xfrm>
              <a:off x="254160" y="4572000"/>
              <a:ext cx="61466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.(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Grandchild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3" name="Group 5"/>
          <p:cNvGrpSpPr/>
          <p:nvPr/>
        </p:nvGrpSpPr>
        <p:grpSpPr>
          <a:xfrm>
            <a:off x="254160" y="3949560"/>
            <a:ext cx="6149520" cy="638280"/>
            <a:chOff x="254160" y="3949560"/>
            <a:chExt cx="6149520" cy="638280"/>
          </a:xfrm>
        </p:grpSpPr>
        <p:sp>
          <p:nvSpPr>
            <p:cNvPr id="964" name="Rectangle 6"/>
            <p:cNvSpPr/>
            <p:nvPr/>
          </p:nvSpPr>
          <p:spPr>
            <a:xfrm>
              <a:off x="254160" y="3949560"/>
              <a:ext cx="6146280" cy="6382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5" name="Rectangle 7"/>
            <p:cNvSpPr/>
            <p:nvPr/>
          </p:nvSpPr>
          <p:spPr>
            <a:xfrm>
              <a:off x="255600" y="3949560"/>
              <a:ext cx="614808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6" name="Group 8"/>
          <p:cNvGrpSpPr/>
          <p:nvPr/>
        </p:nvGrpSpPr>
        <p:grpSpPr>
          <a:xfrm>
            <a:off x="6910560" y="4594320"/>
            <a:ext cx="5838120" cy="2433600"/>
            <a:chOff x="6910560" y="4594320"/>
            <a:chExt cx="5838120" cy="2433600"/>
          </a:xfrm>
        </p:grpSpPr>
        <p:sp>
          <p:nvSpPr>
            <p:cNvPr id="967" name="Rectangle 9"/>
            <p:cNvSpPr/>
            <p:nvPr/>
          </p:nvSpPr>
          <p:spPr>
            <a:xfrm>
              <a:off x="6910560" y="4594320"/>
              <a:ext cx="5838120" cy="2433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8" name="Rectangle 10"/>
            <p:cNvSpPr/>
            <p:nvPr/>
          </p:nvSpPr>
          <p:spPr>
            <a:xfrm>
              <a:off x="6910560" y="4594320"/>
              <a:ext cx="5830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erson(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(x,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(x,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9" name="Group 11"/>
          <p:cNvGrpSpPr/>
          <p:nvPr/>
        </p:nvGrpSpPr>
        <p:grpSpPr>
          <a:xfrm>
            <a:off x="6910560" y="3949560"/>
            <a:ext cx="5838120" cy="638280"/>
            <a:chOff x="6910560" y="3949560"/>
            <a:chExt cx="5838120" cy="638280"/>
          </a:xfrm>
        </p:grpSpPr>
        <p:sp>
          <p:nvSpPr>
            <p:cNvPr id="970" name="Rectangle 12"/>
            <p:cNvSpPr/>
            <p:nvPr/>
          </p:nvSpPr>
          <p:spPr>
            <a:xfrm>
              <a:off x="6910560" y="3949560"/>
              <a:ext cx="5838120" cy="6382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1" name="Rectangle 13"/>
            <p:cNvSpPr/>
            <p:nvPr/>
          </p:nvSpPr>
          <p:spPr>
            <a:xfrm>
              <a:off x="6912000" y="3949560"/>
              <a:ext cx="58302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L 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72" name="AutoShape 14"/>
          <p:cNvSpPr/>
          <p:nvPr/>
        </p:nvSpPr>
        <p:spPr>
          <a:xfrm rot="16200000">
            <a:off x="6450120" y="5336640"/>
            <a:ext cx="409320" cy="5112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3" name="Rectangle 15"/>
          <p:cNvSpPr/>
          <p:nvPr/>
        </p:nvSpPr>
        <p:spPr>
          <a:xfrm>
            <a:off x="4276440" y="3135240"/>
            <a:ext cx="5520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tructural transform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amp; </a:t>
            </a: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clausific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3034-D02B-445D-958D-990CDD0BAA0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fo - Schritt 2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976" name="Group 2"/>
          <p:cNvGrpSpPr/>
          <p:nvPr/>
        </p:nvGrpSpPr>
        <p:grpSpPr>
          <a:xfrm>
            <a:off x="2558880" y="2260440"/>
            <a:ext cx="4406760" cy="512640"/>
            <a:chOff x="2558880" y="2260440"/>
            <a:chExt cx="4406760" cy="512640"/>
          </a:xfrm>
        </p:grpSpPr>
        <p:sp>
          <p:nvSpPr>
            <p:cNvPr id="977" name="Rectangle 3"/>
            <p:cNvSpPr/>
            <p:nvPr/>
          </p:nvSpPr>
          <p:spPr>
            <a:xfrm>
              <a:off x="2560320" y="2260440"/>
              <a:ext cx="4402440" cy="51264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8" name="Rectangle 4"/>
            <p:cNvSpPr/>
            <p:nvPr/>
          </p:nvSpPr>
          <p:spPr>
            <a:xfrm>
              <a:off x="2558880" y="2260440"/>
              <a:ext cx="440676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79" name="Group 5"/>
          <p:cNvGrpSpPr/>
          <p:nvPr/>
        </p:nvGrpSpPr>
        <p:grpSpPr>
          <a:xfrm>
            <a:off x="-47520" y="3084480"/>
            <a:ext cx="5783040" cy="512280"/>
            <a:chOff x="-47520" y="3084480"/>
            <a:chExt cx="5783040" cy="512280"/>
          </a:xfrm>
        </p:grpSpPr>
        <p:sp>
          <p:nvSpPr>
            <p:cNvPr id="980" name="Rectangle 6"/>
            <p:cNvSpPr/>
            <p:nvPr/>
          </p:nvSpPr>
          <p:spPr>
            <a:xfrm>
              <a:off x="-47520" y="3084480"/>
              <a:ext cx="5783040" cy="51228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1" name="Rectangle 7"/>
            <p:cNvSpPr/>
            <p:nvPr/>
          </p:nvSpPr>
          <p:spPr>
            <a:xfrm>
              <a:off x="299880" y="3084480"/>
              <a:ext cx="5087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66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y)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82" name="Group 8"/>
          <p:cNvGrpSpPr/>
          <p:nvPr/>
        </p:nvGrpSpPr>
        <p:grpSpPr>
          <a:xfrm>
            <a:off x="7169040" y="2260440"/>
            <a:ext cx="5326200" cy="512640"/>
            <a:chOff x="7169040" y="2260440"/>
            <a:chExt cx="5326200" cy="512640"/>
          </a:xfrm>
        </p:grpSpPr>
        <p:sp>
          <p:nvSpPr>
            <p:cNvPr id="983" name="Rectangle 9"/>
            <p:cNvSpPr/>
            <p:nvPr/>
          </p:nvSpPr>
          <p:spPr>
            <a:xfrm>
              <a:off x="7169040" y="2260440"/>
              <a:ext cx="5326200" cy="51264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4" name="Rectangle 10"/>
            <p:cNvSpPr/>
            <p:nvPr/>
          </p:nvSpPr>
          <p:spPr>
            <a:xfrm>
              <a:off x="7358400" y="2260440"/>
              <a:ext cx="49453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66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y)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85" name="Group 11"/>
          <p:cNvGrpSpPr/>
          <p:nvPr/>
        </p:nvGrpSpPr>
        <p:grpSpPr>
          <a:xfrm>
            <a:off x="6350040" y="2768760"/>
            <a:ext cx="5731920" cy="1438200"/>
            <a:chOff x="6350040" y="2768760"/>
            <a:chExt cx="5731920" cy="1438200"/>
          </a:xfrm>
        </p:grpSpPr>
        <p:sp>
          <p:nvSpPr>
            <p:cNvPr id="986" name="Line 12"/>
            <p:cNvSpPr/>
            <p:nvPr/>
          </p:nvSpPr>
          <p:spPr>
            <a:xfrm>
              <a:off x="6350040" y="2768760"/>
              <a:ext cx="612360" cy="9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7" name="Line 13"/>
            <p:cNvSpPr/>
            <p:nvPr/>
          </p:nvSpPr>
          <p:spPr>
            <a:xfrm flipH="1">
              <a:off x="8395560" y="2768760"/>
              <a:ext cx="820440" cy="9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988" name="Group 14"/>
            <p:cNvGrpSpPr/>
            <p:nvPr/>
          </p:nvGrpSpPr>
          <p:grpSpPr>
            <a:xfrm>
              <a:off x="6654600" y="3695760"/>
              <a:ext cx="5427360" cy="511200"/>
              <a:chOff x="6654600" y="3695760"/>
              <a:chExt cx="5427360" cy="511200"/>
            </a:xfrm>
          </p:grpSpPr>
          <p:sp>
            <p:nvSpPr>
              <p:cNvPr id="989" name="Rectangle 15"/>
              <p:cNvSpPr/>
              <p:nvPr/>
            </p:nvSpPr>
            <p:spPr>
              <a:xfrm>
                <a:off x="6654600" y="3695760"/>
                <a:ext cx="5427360" cy="51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90" name="Rectangle 16"/>
              <p:cNvSpPr/>
              <p:nvPr/>
            </p:nvSpPr>
            <p:spPr>
              <a:xfrm>
                <a:off x="6819840" y="3695760"/>
                <a:ext cx="50976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Q</a:t>
                </a:r>
                <a:r>
                  <a:rPr b="0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991" name="Group 17"/>
          <p:cNvGrpSpPr/>
          <p:nvPr/>
        </p:nvGrpSpPr>
        <p:grpSpPr>
          <a:xfrm>
            <a:off x="409680" y="2768760"/>
            <a:ext cx="5937840" cy="1742400"/>
            <a:chOff x="409680" y="2768760"/>
            <a:chExt cx="5937840" cy="1742400"/>
          </a:xfrm>
        </p:grpSpPr>
        <p:grpSp>
          <p:nvGrpSpPr>
            <p:cNvPr id="992" name="Group 18"/>
            <p:cNvGrpSpPr/>
            <p:nvPr/>
          </p:nvGrpSpPr>
          <p:grpSpPr>
            <a:xfrm>
              <a:off x="409680" y="4000320"/>
              <a:ext cx="5838120" cy="510840"/>
              <a:chOff x="409680" y="4000320"/>
              <a:chExt cx="5838120" cy="510840"/>
            </a:xfrm>
          </p:grpSpPr>
          <p:sp>
            <p:nvSpPr>
              <p:cNvPr id="993" name="Rectangle 19"/>
              <p:cNvSpPr/>
              <p:nvPr/>
            </p:nvSpPr>
            <p:spPr>
              <a:xfrm>
                <a:off x="409680" y="4000320"/>
                <a:ext cx="583812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94" name="Rectangle 20"/>
              <p:cNvSpPr/>
              <p:nvPr/>
            </p:nvSpPr>
            <p:spPr>
              <a:xfrm>
                <a:off x="742680" y="4000320"/>
                <a:ext cx="517212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Q</a:t>
                </a:r>
                <a:r>
                  <a:rPr b="1" lang="en-US" sz="2400" spc="-1" strike="noStrike" baseline="-20000">
                    <a:solidFill>
                      <a:srgbClr val="ff0066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995" name="Line 21"/>
            <p:cNvSpPr/>
            <p:nvPr/>
          </p:nvSpPr>
          <p:spPr>
            <a:xfrm flipH="1">
              <a:off x="5427000" y="2768760"/>
              <a:ext cx="920520" cy="12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96" name="Line 22"/>
            <p:cNvSpPr/>
            <p:nvPr/>
          </p:nvSpPr>
          <p:spPr>
            <a:xfrm>
              <a:off x="2657880" y="3592440"/>
              <a:ext cx="309600" cy="40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97" name="Group 23"/>
          <p:cNvGrpSpPr/>
          <p:nvPr/>
        </p:nvGrpSpPr>
        <p:grpSpPr>
          <a:xfrm>
            <a:off x="7988400" y="4610160"/>
            <a:ext cx="4093560" cy="511200"/>
            <a:chOff x="7988400" y="4610160"/>
            <a:chExt cx="4093560" cy="511200"/>
          </a:xfrm>
        </p:grpSpPr>
        <p:sp>
          <p:nvSpPr>
            <p:cNvPr id="998" name="Rectangle 24"/>
            <p:cNvSpPr/>
            <p:nvPr/>
          </p:nvSpPr>
          <p:spPr>
            <a:xfrm>
              <a:off x="7988400" y="4610160"/>
              <a:ext cx="4093560" cy="51120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99" name="Rectangle 25"/>
            <p:cNvSpPr/>
            <p:nvPr/>
          </p:nvSpPr>
          <p:spPr>
            <a:xfrm>
              <a:off x="8192520" y="4610160"/>
              <a:ext cx="3684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erson(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00" name="Group 26"/>
          <p:cNvGrpSpPr/>
          <p:nvPr/>
        </p:nvGrpSpPr>
        <p:grpSpPr>
          <a:xfrm>
            <a:off x="5732640" y="4206960"/>
            <a:ext cx="3074760" cy="1843920"/>
            <a:chOff x="5732640" y="4206960"/>
            <a:chExt cx="3074760" cy="1843920"/>
          </a:xfrm>
        </p:grpSpPr>
        <p:grpSp>
          <p:nvGrpSpPr>
            <p:cNvPr id="1001" name="Group 27"/>
            <p:cNvGrpSpPr/>
            <p:nvPr/>
          </p:nvGrpSpPr>
          <p:grpSpPr>
            <a:xfrm>
              <a:off x="5732640" y="5539680"/>
              <a:ext cx="3074760" cy="511200"/>
              <a:chOff x="5732640" y="5539680"/>
              <a:chExt cx="3074760" cy="511200"/>
            </a:xfrm>
          </p:grpSpPr>
          <p:sp>
            <p:nvSpPr>
              <p:cNvPr id="1002" name="Rectangle 28"/>
              <p:cNvSpPr/>
              <p:nvPr/>
            </p:nvSpPr>
            <p:spPr>
              <a:xfrm>
                <a:off x="5732640" y="5539680"/>
                <a:ext cx="3074760" cy="51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03" name="Rectangle 29"/>
              <p:cNvSpPr/>
              <p:nvPr/>
            </p:nvSpPr>
            <p:spPr>
              <a:xfrm>
                <a:off x="5835600" y="5539680"/>
                <a:ext cx="286632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Q</a:t>
                </a:r>
                <a:r>
                  <a:rPr b="1" lang="en-US" sz="2400" spc="-1" strike="noStrike" baseline="-20000">
                    <a:solidFill>
                      <a:srgbClr val="ff0066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(x)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04" name="Line 30"/>
            <p:cNvSpPr/>
            <p:nvPr/>
          </p:nvSpPr>
          <p:spPr>
            <a:xfrm flipV="1">
              <a:off x="7884360" y="5128200"/>
              <a:ext cx="41076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05" name="Line 31"/>
            <p:cNvSpPr/>
            <p:nvPr/>
          </p:nvSpPr>
          <p:spPr>
            <a:xfrm>
              <a:off x="6957720" y="4206960"/>
              <a:ext cx="717480" cy="133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06" name="Group 32"/>
          <p:cNvGrpSpPr/>
          <p:nvPr/>
        </p:nvGrpSpPr>
        <p:grpSpPr>
          <a:xfrm>
            <a:off x="614520" y="4513320"/>
            <a:ext cx="6657840" cy="2458440"/>
            <a:chOff x="614520" y="4513320"/>
            <a:chExt cx="6657840" cy="2458440"/>
          </a:xfrm>
        </p:grpSpPr>
        <p:grpSp>
          <p:nvGrpSpPr>
            <p:cNvPr id="1007" name="Group 33"/>
            <p:cNvGrpSpPr/>
            <p:nvPr/>
          </p:nvGrpSpPr>
          <p:grpSpPr>
            <a:xfrm>
              <a:off x="614520" y="6459120"/>
              <a:ext cx="6657840" cy="512640"/>
              <a:chOff x="614520" y="6459120"/>
              <a:chExt cx="6657840" cy="512640"/>
            </a:xfrm>
          </p:grpSpPr>
          <p:sp>
            <p:nvSpPr>
              <p:cNvPr id="1008" name="Rectangle 34"/>
              <p:cNvSpPr/>
              <p:nvPr/>
            </p:nvSpPr>
            <p:spPr>
              <a:xfrm>
                <a:off x="614520" y="6459120"/>
                <a:ext cx="665784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09" name="Rectangle 35"/>
              <p:cNvSpPr/>
              <p:nvPr/>
            </p:nvSpPr>
            <p:spPr>
              <a:xfrm>
                <a:off x="917640" y="6459120"/>
                <a:ext cx="6050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10" name="Line 36"/>
            <p:cNvSpPr/>
            <p:nvPr/>
          </p:nvSpPr>
          <p:spPr>
            <a:xfrm>
              <a:off x="2762280" y="4513320"/>
              <a:ext cx="1025640" cy="19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11" name="Line 37"/>
            <p:cNvSpPr/>
            <p:nvPr/>
          </p:nvSpPr>
          <p:spPr>
            <a:xfrm flipV="1">
              <a:off x="5835960" y="6050880"/>
              <a:ext cx="41112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12" name="Group 38"/>
          <p:cNvGrpSpPr/>
          <p:nvPr/>
        </p:nvGrpSpPr>
        <p:grpSpPr>
          <a:xfrm>
            <a:off x="5122800" y="5127120"/>
            <a:ext cx="4605840" cy="2971440"/>
            <a:chOff x="5122800" y="5127120"/>
            <a:chExt cx="4605840" cy="2971440"/>
          </a:xfrm>
        </p:grpSpPr>
        <p:sp>
          <p:nvSpPr>
            <p:cNvPr id="1013" name="Line 39"/>
            <p:cNvSpPr/>
            <p:nvPr/>
          </p:nvSpPr>
          <p:spPr>
            <a:xfrm flipH="1" flipV="1">
              <a:off x="5738400" y="6971400"/>
              <a:ext cx="716040" cy="61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014" name="Group 40"/>
            <p:cNvGrpSpPr/>
            <p:nvPr/>
          </p:nvGrpSpPr>
          <p:grpSpPr>
            <a:xfrm>
              <a:off x="5122800" y="7585920"/>
              <a:ext cx="4293360" cy="512640"/>
              <a:chOff x="5122800" y="7585920"/>
              <a:chExt cx="4293360" cy="512640"/>
            </a:xfrm>
          </p:grpSpPr>
          <p:sp>
            <p:nvSpPr>
              <p:cNvPr id="1015" name="Rectangle 41"/>
              <p:cNvSpPr/>
              <p:nvPr/>
            </p:nvSpPr>
            <p:spPr>
              <a:xfrm>
                <a:off x="5122800" y="7585920"/>
                <a:ext cx="429336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16" name="Rectangle 42"/>
              <p:cNvSpPr/>
              <p:nvPr/>
            </p:nvSpPr>
            <p:spPr>
              <a:xfrm>
                <a:off x="5328720" y="7585920"/>
                <a:ext cx="3886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x)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17" name="Line 43"/>
            <p:cNvSpPr/>
            <p:nvPr/>
          </p:nvSpPr>
          <p:spPr>
            <a:xfrm flipV="1">
              <a:off x="8294760" y="5127120"/>
              <a:ext cx="1433880" cy="245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18" name="Group 44"/>
          <p:cNvGrpSpPr/>
          <p:nvPr/>
        </p:nvGrpSpPr>
        <p:grpSpPr>
          <a:xfrm>
            <a:off x="6959520" y="3695760"/>
            <a:ext cx="5016600" cy="511200"/>
            <a:chOff x="6959520" y="3695760"/>
            <a:chExt cx="5016600" cy="511200"/>
          </a:xfrm>
        </p:grpSpPr>
        <p:sp>
          <p:nvSpPr>
            <p:cNvPr id="1019" name="Line 45"/>
            <p:cNvSpPr/>
            <p:nvPr/>
          </p:nvSpPr>
          <p:spPr>
            <a:xfrm>
              <a:off x="6959520" y="3695760"/>
              <a:ext cx="5016600" cy="511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0" name="Line 46"/>
            <p:cNvSpPr/>
            <p:nvPr/>
          </p:nvSpPr>
          <p:spPr>
            <a:xfrm flipH="1">
              <a:off x="6959520" y="3695760"/>
              <a:ext cx="5005440" cy="511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1" name="Group 47"/>
          <p:cNvGrpSpPr/>
          <p:nvPr/>
        </p:nvGrpSpPr>
        <p:grpSpPr>
          <a:xfrm>
            <a:off x="817560" y="4000680"/>
            <a:ext cx="5224320" cy="509400"/>
            <a:chOff x="817560" y="4000680"/>
            <a:chExt cx="5224320" cy="509400"/>
          </a:xfrm>
        </p:grpSpPr>
        <p:sp>
          <p:nvSpPr>
            <p:cNvPr id="1022" name="Line 48"/>
            <p:cNvSpPr/>
            <p:nvPr/>
          </p:nvSpPr>
          <p:spPr>
            <a:xfrm>
              <a:off x="817560" y="4000680"/>
              <a:ext cx="52243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3" name="Line 49"/>
            <p:cNvSpPr/>
            <p:nvPr/>
          </p:nvSpPr>
          <p:spPr>
            <a:xfrm flipH="1">
              <a:off x="817560" y="4000680"/>
              <a:ext cx="52135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4" name="Group 50"/>
          <p:cNvGrpSpPr/>
          <p:nvPr/>
        </p:nvGrpSpPr>
        <p:grpSpPr>
          <a:xfrm>
            <a:off x="720720" y="6459480"/>
            <a:ext cx="6447960" cy="512640"/>
            <a:chOff x="720720" y="6459480"/>
            <a:chExt cx="6447960" cy="512640"/>
          </a:xfrm>
        </p:grpSpPr>
        <p:sp>
          <p:nvSpPr>
            <p:cNvPr id="1025" name="Line 51"/>
            <p:cNvSpPr/>
            <p:nvPr/>
          </p:nvSpPr>
          <p:spPr>
            <a:xfrm>
              <a:off x="720720" y="6459480"/>
              <a:ext cx="6447960" cy="512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6" name="Line 52"/>
            <p:cNvSpPr/>
            <p:nvPr/>
          </p:nvSpPr>
          <p:spPr>
            <a:xfrm flipH="1">
              <a:off x="720720" y="6459480"/>
              <a:ext cx="6435360" cy="512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7" name="Group 53"/>
          <p:cNvGrpSpPr/>
          <p:nvPr/>
        </p:nvGrpSpPr>
        <p:grpSpPr>
          <a:xfrm>
            <a:off x="2355840" y="2260440"/>
            <a:ext cx="4711680" cy="509760"/>
            <a:chOff x="2355840" y="2260440"/>
            <a:chExt cx="4711680" cy="509760"/>
          </a:xfrm>
        </p:grpSpPr>
        <p:sp>
          <p:nvSpPr>
            <p:cNvPr id="1028" name="Line 54"/>
            <p:cNvSpPr/>
            <p:nvPr/>
          </p:nvSpPr>
          <p:spPr>
            <a:xfrm>
              <a:off x="2355840" y="2260440"/>
              <a:ext cx="4711680" cy="5097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9" name="Line 55"/>
            <p:cNvSpPr/>
            <p:nvPr/>
          </p:nvSpPr>
          <p:spPr>
            <a:xfrm flipH="1">
              <a:off x="2355840" y="2260440"/>
              <a:ext cx="4702320" cy="5097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0" name="Group 56"/>
          <p:cNvGrpSpPr/>
          <p:nvPr/>
        </p:nvGrpSpPr>
        <p:grpSpPr>
          <a:xfrm>
            <a:off x="7783560" y="4610160"/>
            <a:ext cx="4402080" cy="509400"/>
            <a:chOff x="7783560" y="4610160"/>
            <a:chExt cx="4402080" cy="509400"/>
          </a:xfrm>
        </p:grpSpPr>
        <p:sp>
          <p:nvSpPr>
            <p:cNvPr id="1031" name="Line 57"/>
            <p:cNvSpPr/>
            <p:nvPr/>
          </p:nvSpPr>
          <p:spPr>
            <a:xfrm>
              <a:off x="7783560" y="4610160"/>
              <a:ext cx="440208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2" name="Line 58"/>
            <p:cNvSpPr/>
            <p:nvPr/>
          </p:nvSpPr>
          <p:spPr>
            <a:xfrm flipH="1">
              <a:off x="7783560" y="4610160"/>
              <a:ext cx="43927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3" name="Group 59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34" name="Rectangle 60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5" name="Rectangle 61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 1: Saturating TBox and RBox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6" name="Group 62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37" name="Rectangle 63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8" name="Rectangle 64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Base Saturated!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9" name="Group 65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40" name="Rectangle 66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1" name="Rectangle 67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 2: Remove Irrelevant Rule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42" name="Group 68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43" name="Rectangle 69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4" name="Rectangle 70"/>
            <p:cNvSpPr/>
            <p:nvPr/>
          </p:nvSpPr>
          <p:spPr>
            <a:xfrm>
              <a:off x="614520" y="8823240"/>
              <a:ext cx="42926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e to Datalog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500"/>
                            </p:stCondLst>
                            <p:childTnLst>
                              <p:par>
                                <p:cTn id="57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5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1C12-C2D3-40C0-A734-65E74140CD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Result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sjunktives Datalog-Program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1048" name="Group 3"/>
          <p:cNvGrpSpPr/>
          <p:nvPr/>
        </p:nvGrpSpPr>
        <p:grpSpPr>
          <a:xfrm>
            <a:off x="2655720" y="6567480"/>
            <a:ext cx="8093160" cy="2125800"/>
            <a:chOff x="2655720" y="6567480"/>
            <a:chExt cx="8093160" cy="2125800"/>
          </a:xfrm>
        </p:grpSpPr>
        <p:sp>
          <p:nvSpPr>
            <p:cNvPr id="1049" name="Rectangle 4"/>
            <p:cNvSpPr/>
            <p:nvPr/>
          </p:nvSpPr>
          <p:spPr>
            <a:xfrm>
              <a:off x="2655720" y="6567480"/>
              <a:ext cx="8093160" cy="212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0" name="Rectangle 5"/>
            <p:cNvSpPr/>
            <p:nvPr/>
          </p:nvSpPr>
          <p:spPr>
            <a:xfrm>
              <a:off x="2655720" y="6567480"/>
              <a:ext cx="8089920" cy="20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, Peson(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y),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, Grandchild(x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 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1(x),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erson(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1" name="Group 6"/>
          <p:cNvGrpSpPr/>
          <p:nvPr/>
        </p:nvGrpSpPr>
        <p:grpSpPr>
          <a:xfrm>
            <a:off x="2655720" y="5927760"/>
            <a:ext cx="8093160" cy="639360"/>
            <a:chOff x="2655720" y="5927760"/>
            <a:chExt cx="8093160" cy="639360"/>
          </a:xfrm>
        </p:grpSpPr>
        <p:sp>
          <p:nvSpPr>
            <p:cNvPr id="1052" name="Rectangle 7"/>
            <p:cNvSpPr/>
            <p:nvPr/>
          </p:nvSpPr>
          <p:spPr>
            <a:xfrm>
              <a:off x="2655720" y="5927760"/>
              <a:ext cx="8093160" cy="63936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3" name="Rectangle 8"/>
            <p:cNvSpPr/>
            <p:nvPr/>
          </p:nvSpPr>
          <p:spPr>
            <a:xfrm>
              <a:off x="2655720" y="5927760"/>
              <a:ext cx="808992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D(KB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4" name="Group 9"/>
          <p:cNvGrpSpPr/>
          <p:nvPr/>
        </p:nvGrpSpPr>
        <p:grpSpPr>
          <a:xfrm>
            <a:off x="2657520" y="3575160"/>
            <a:ext cx="8094240" cy="609480"/>
            <a:chOff x="2657520" y="3575160"/>
            <a:chExt cx="8094240" cy="609480"/>
          </a:xfrm>
        </p:grpSpPr>
        <p:sp>
          <p:nvSpPr>
            <p:cNvPr id="1055" name="Rectangle 10"/>
            <p:cNvSpPr/>
            <p:nvPr/>
          </p:nvSpPr>
          <p:spPr>
            <a:xfrm>
              <a:off x="2657520" y="3575160"/>
              <a:ext cx="8094240" cy="6094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6" name="Rectangle 11"/>
            <p:cNvSpPr/>
            <p:nvPr/>
          </p:nvSpPr>
          <p:spPr>
            <a:xfrm>
              <a:off x="2657520" y="3575160"/>
              <a:ext cx="80910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7" name="Group 12"/>
          <p:cNvGrpSpPr/>
          <p:nvPr/>
        </p:nvGrpSpPr>
        <p:grpSpPr>
          <a:xfrm>
            <a:off x="2655720" y="4189320"/>
            <a:ext cx="8096400" cy="1741320"/>
            <a:chOff x="2655720" y="4189320"/>
            <a:chExt cx="8096400" cy="1741320"/>
          </a:xfrm>
        </p:grpSpPr>
        <p:sp>
          <p:nvSpPr>
            <p:cNvPr id="1058" name="Rectangle 13"/>
            <p:cNvSpPr/>
            <p:nvPr/>
          </p:nvSpPr>
          <p:spPr>
            <a:xfrm>
              <a:off x="2655720" y="4189320"/>
              <a:ext cx="8096400" cy="174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9" name="Rectangle 14"/>
            <p:cNvSpPr/>
            <p:nvPr/>
          </p:nvSpPr>
          <p:spPr>
            <a:xfrm>
              <a:off x="2655720" y="4189320"/>
              <a:ext cx="8089920" cy="13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.(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Grandchild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DCE8-48F3-49BF-B3DC-395354C646E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Inferenzmechanismu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4968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der TBox in funktionsfreie Klauseln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xptime!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inzufügen der ABox.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ferenzprobleme in Konsistenzcheck um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sistenzcheck mit Standardmethoden für funktionsfreie Klauseln (z.B. magic sets)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NP-vollständig!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 braucht nur einmal behandelt zu werden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lgorithmus ist worst-case optimal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komplexität ist NP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D0BE-66E1-4931-8E36-8F5CB8A2D2C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weitere Sprachmitt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ere Konstruktoren sind z.B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mber restrictions (Kardinalitäts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hasChild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hasMothe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ified number restrictions (klassenspezifische Kardinalitäts-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hasChild.Female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hasParent.Ma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minals (Definition durch Aufzählung)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{Italy, France, Spain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krete Bereiche (Datentypen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hasAge.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1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</a:t>
            </a:r>
            <a:r>
              <a:rPr b="1" lang="en-US" sz="3800" spc="-1" strike="noStrike" baseline="31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(hasAnces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verknüpfung:              Sibling </a:t>
            </a:r>
            <a:r>
              <a:rPr b="0" lang="en-US" sz="2800" spc="-1" strike="noStrike" baseline="28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arent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4C3C-F87D-4F73-BE76-F2AA8278EB4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6819-F5B2-4BD8-A658-652F9CFDE58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Grundbaustein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bausteine: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namen (auch als Konzepte bezeichnet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oll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(RudiStud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um RudiStuder ist in Klasse 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gehoerigkeit(RudiStuder,AIF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udiStuder ist dem AIFB zugehöri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254160" y="5708520"/>
            <a:ext cx="1107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1114560" indent="-406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ngabe von Klassen- und Rolleninstanzen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14560" indent="-406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7:09:16Z</dcterms:created>
  <dc:creator/>
  <dc:description/>
  <cp:keywords/>
  <dc:language>en-US</dc:language>
  <cp:lastModifiedBy>Sebastian Rudolph</cp:lastModifiedBy>
  <dcterms:modified xsi:type="dcterms:W3CDTF">2008-12-10T07:41:40Z</dcterms:modified>
  <cp:revision>4</cp:revision>
  <dc:subject/>
  <dc:title>Grundlagen Semantic Web</dc:title>
</cp:coreProperties>
</file>